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-5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保守力与非保守力   势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3141720"/>
                <a:ext cx="58323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m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12" name="Group 5"/>
          <p:cNvGrpSpPr/>
          <p:nvPr/>
        </p:nvGrpSpPr>
        <p:grpSpPr>
          <a:xfrm>
            <a:off x="755640" y="2276640"/>
            <a:ext cx="1947600" cy="726840"/>
            <a:chOff x="755640" y="2276640"/>
            <a:chExt cx="1947600" cy="726840"/>
          </a:xfrm>
        </p:grpSpPr>
        <mc:AlternateContent>
          <mc:Choice xmlns:a14="http://schemas.microsoft.com/office/drawing/2010/main" Requires="a14">
            <p:sp>
              <p:nvSpPr>
                <p:cNvPr id="313" name="Object 6"/>
                <p:cNvSpPr txBox="1"/>
                <p:nvPr/>
              </p:nvSpPr>
              <p:spPr>
                <a:xfrm>
                  <a:off x="1331640" y="2276640"/>
                  <a:ext cx="137160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Text Box 7"/>
            <p:cNvSpPr/>
            <p:nvPr/>
          </p:nvSpPr>
          <p:spPr>
            <a:xfrm>
              <a:off x="755640" y="2276640"/>
              <a:ext cx="53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Text Box 8"/>
          <p:cNvSpPr/>
          <p:nvPr/>
        </p:nvSpPr>
        <p:spPr>
          <a:xfrm>
            <a:off x="826920" y="907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势能计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9"/>
              <p:cNvSpPr txBox="1"/>
              <p:nvPr/>
            </p:nvSpPr>
            <p:spPr>
              <a:xfrm>
                <a:off x="1835280" y="1628640"/>
                <a:ext cx="4608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Text Box 17"/>
          <p:cNvSpPr/>
          <p:nvPr/>
        </p:nvSpPr>
        <p:spPr>
          <a:xfrm>
            <a:off x="755640" y="443700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点在空间某点的势能值等于将其从该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沿任意路径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势能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零的参考点时，保守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做的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214280" y="14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势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8"/>
          <p:cNvSpPr/>
          <p:nvPr/>
        </p:nvSpPr>
        <p:spPr>
          <a:xfrm>
            <a:off x="1054440" y="1042920"/>
            <a:ext cx="15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  <a:ea typeface="Times New Roman"/>
              </a:rPr>
              <a:t>重力势能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1068480" y="2604960"/>
            <a:ext cx="15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  <a:ea typeface="Times New Roman"/>
              </a:rPr>
              <a:t>弹性势能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1048320" y="4395960"/>
            <a:ext cx="2111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  <a:ea typeface="Times New Roman"/>
              </a:rPr>
              <a:t>万有引力势能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4047120" y="17780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势能零点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Group 33"/>
          <p:cNvGrpSpPr/>
          <p:nvPr/>
        </p:nvGrpSpPr>
        <p:grpSpPr>
          <a:xfrm>
            <a:off x="4307040" y="4429080"/>
            <a:ext cx="3084120" cy="520560"/>
            <a:chOff x="4307040" y="4429080"/>
            <a:chExt cx="3084120" cy="520560"/>
          </a:xfrm>
        </p:grpSpPr>
        <p:sp>
          <p:nvSpPr>
            <p:cNvPr id="324" name="Text Box 34"/>
            <p:cNvSpPr/>
            <p:nvPr/>
          </p:nvSpPr>
          <p:spPr>
            <a:xfrm>
              <a:off x="4307040" y="4429080"/>
              <a:ext cx="30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势能零点选在           处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Object 35"/>
                <p:cNvSpPr txBox="1"/>
                <p:nvPr/>
              </p:nvSpPr>
              <p:spPr>
                <a:xfrm>
                  <a:off x="6264720" y="4517640"/>
                  <a:ext cx="920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Text Box 4"/>
          <p:cNvSpPr/>
          <p:nvPr/>
        </p:nvSpPr>
        <p:spPr>
          <a:xfrm>
            <a:off x="1214280" y="214200"/>
            <a:ext cx="65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种保守力的势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476360" y="1700280"/>
                <a:ext cx="1782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9"/>
              <p:cNvSpPr txBox="1"/>
              <p:nvPr/>
            </p:nvSpPr>
            <p:spPr>
              <a:xfrm>
                <a:off x="1187280" y="3284640"/>
                <a:ext cx="17859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0"/>
              <p:cNvSpPr txBox="1"/>
              <p:nvPr/>
            </p:nvSpPr>
            <p:spPr>
              <a:xfrm>
                <a:off x="1116000" y="5013360"/>
                <a:ext cx="20937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Text Box 3"/>
          <p:cNvSpPr/>
          <p:nvPr/>
        </p:nvSpPr>
        <p:spPr>
          <a:xfrm>
            <a:off x="3571920" y="29289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势能零点在弹簧未发生形变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826920" y="2276640"/>
            <a:ext cx="7869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势能是相对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势能零点不同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各点势能值也就不同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但不影响任意两点的势能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2" name="Group 10"/>
          <p:cNvGrpSpPr/>
          <p:nvPr/>
        </p:nvGrpSpPr>
        <p:grpSpPr>
          <a:xfrm>
            <a:off x="900000" y="981000"/>
            <a:ext cx="7704360" cy="1079640"/>
            <a:chOff x="900000" y="981000"/>
            <a:chExt cx="7704360" cy="1079640"/>
          </a:xfrm>
        </p:grpSpPr>
        <mc:AlternateContent>
          <mc:Choice xmlns:a14="http://schemas.microsoft.com/office/drawing/2010/main" Requires="a14">
            <p:sp>
              <p:nvSpPr>
                <p:cNvPr id="333" name="Object 3"/>
                <p:cNvSpPr txBox="1"/>
                <p:nvPr/>
              </p:nvSpPr>
              <p:spPr>
                <a:xfrm>
                  <a:off x="4932360" y="981000"/>
                  <a:ext cx="29527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Rectangle 4"/>
            <p:cNvSpPr/>
            <p:nvPr/>
          </p:nvSpPr>
          <p:spPr>
            <a:xfrm>
              <a:off x="900000" y="1052640"/>
              <a:ext cx="7704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势能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状态的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函数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,                         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只有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保守力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才能引入相应的势能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Rectangle 5"/>
          <p:cNvSpPr/>
          <p:nvPr/>
        </p:nvSpPr>
        <p:spPr>
          <a:xfrm>
            <a:off x="928800" y="36432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势能属于相互作用的系统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它不属于某一个质点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它实质上是一种相互作用能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611280" y="189000"/>
            <a:ext cx="1295280" cy="838080"/>
            <a:chOff x="611280" y="189000"/>
            <a:chExt cx="1295280" cy="838080"/>
          </a:xfrm>
        </p:grpSpPr>
        <p:sp>
          <p:nvSpPr>
            <p:cNvPr id="337" name="AutoShape 7"/>
            <p:cNvSpPr/>
            <p:nvPr/>
          </p:nvSpPr>
          <p:spPr>
            <a:xfrm>
              <a:off x="611280" y="189000"/>
              <a:ext cx="129528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Text Box 8"/>
            <p:cNvSpPr/>
            <p:nvPr/>
          </p:nvSpPr>
          <p:spPr>
            <a:xfrm>
              <a:off x="763560" y="291960"/>
              <a:ext cx="10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Rectangle 9"/>
          <p:cNvSpPr/>
          <p:nvPr/>
        </p:nvSpPr>
        <p:spPr>
          <a:xfrm>
            <a:off x="971640" y="486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势能不依赖于参考系的选择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571680" y="1143000"/>
            <a:ext cx="7921440" cy="3286080"/>
            <a:chOff x="571680" y="1143000"/>
            <a:chExt cx="7921440" cy="3286080"/>
          </a:xfrm>
        </p:grpSpPr>
        <p:sp>
          <p:nvSpPr>
            <p:cNvPr id="341" name="Rectangle 3"/>
            <p:cNvSpPr/>
            <p:nvPr/>
          </p:nvSpPr>
          <p:spPr>
            <a:xfrm>
              <a:off x="571680" y="1143000"/>
              <a:ext cx="7921440" cy="32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2" name="Group 4"/>
            <p:cNvGrpSpPr/>
            <p:nvPr/>
          </p:nvGrpSpPr>
          <p:grpSpPr>
            <a:xfrm>
              <a:off x="650880" y="1262160"/>
              <a:ext cx="2208960" cy="2925360"/>
              <a:chOff x="650880" y="1262160"/>
              <a:chExt cx="2208960" cy="2925360"/>
            </a:xfrm>
          </p:grpSpPr>
          <p:grpSp>
            <p:nvGrpSpPr>
              <p:cNvPr id="343" name="Group 5"/>
              <p:cNvGrpSpPr/>
              <p:nvPr/>
            </p:nvGrpSpPr>
            <p:grpSpPr>
              <a:xfrm>
                <a:off x="650880" y="2054520"/>
                <a:ext cx="2208960" cy="2133000"/>
                <a:chOff x="650880" y="2054520"/>
                <a:chExt cx="2208960" cy="2133000"/>
              </a:xfrm>
            </p:grpSpPr>
            <p:sp>
              <p:nvSpPr>
                <p:cNvPr id="344" name="Line 6"/>
                <p:cNvSpPr/>
                <p:nvPr/>
              </p:nvSpPr>
              <p:spPr>
                <a:xfrm>
                  <a:off x="1244160" y="4016160"/>
                  <a:ext cx="155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Line 7"/>
                <p:cNvSpPr/>
                <p:nvPr/>
              </p:nvSpPr>
              <p:spPr>
                <a:xfrm flipV="1">
                  <a:off x="1234800" y="2220840"/>
                  <a:ext cx="0" cy="178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6" name="Line 8"/>
                <p:cNvSpPr/>
                <p:nvPr/>
              </p:nvSpPr>
              <p:spPr>
                <a:xfrm flipV="1">
                  <a:off x="1234800" y="2666520"/>
                  <a:ext cx="1296720" cy="1341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7" name="Object 9"/>
                    <p:cNvSpPr txBox="1"/>
                    <p:nvPr/>
                  </p:nvSpPr>
                  <p:spPr>
                    <a:xfrm>
                      <a:off x="650880" y="2054520"/>
                      <a:ext cx="609120" cy="68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48" name="Object 10"/>
                    <p:cNvSpPr txBox="1"/>
                    <p:nvPr/>
                  </p:nvSpPr>
                  <p:spPr>
                    <a:xfrm>
                      <a:off x="2533320" y="3578040"/>
                      <a:ext cx="32652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z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49" name="Object 11"/>
                    <p:cNvSpPr txBox="1"/>
                    <p:nvPr/>
                  </p:nvSpPr>
                  <p:spPr>
                    <a:xfrm>
                      <a:off x="950400" y="3879720"/>
                      <a:ext cx="209520" cy="307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350" name="Object 12"/>
                  <p:cNvSpPr txBox="1"/>
                  <p:nvPr/>
                </p:nvSpPr>
                <p:spPr>
                  <a:xfrm>
                    <a:off x="990360" y="1262160"/>
                    <a:ext cx="1764720" cy="62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51" name="Text Box 13"/>
          <p:cNvSpPr/>
          <p:nvPr/>
        </p:nvSpPr>
        <p:spPr>
          <a:xfrm>
            <a:off x="1071720" y="142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势能曲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3332160" y="4869000"/>
            <a:ext cx="2895120" cy="1252080"/>
            <a:chOff x="3332160" y="4869000"/>
            <a:chExt cx="2895120" cy="1252080"/>
          </a:xfrm>
        </p:grpSpPr>
        <p:sp>
          <p:nvSpPr>
            <p:cNvPr id="353" name="Rectangle 15"/>
            <p:cNvSpPr/>
            <p:nvPr/>
          </p:nvSpPr>
          <p:spPr>
            <a:xfrm>
              <a:off x="3408120" y="48690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弹性</a:t>
              </a: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势能曲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16"/>
                <p:cNvSpPr txBox="1"/>
                <p:nvPr/>
              </p:nvSpPr>
              <p:spPr>
                <a:xfrm>
                  <a:off x="3332160" y="5441760"/>
                  <a:ext cx="25142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m>
                        <m:m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Group 17"/>
          <p:cNvGrpSpPr/>
          <p:nvPr/>
        </p:nvGrpSpPr>
        <p:grpSpPr>
          <a:xfrm>
            <a:off x="584280" y="4869000"/>
            <a:ext cx="3124080" cy="1260000"/>
            <a:chOff x="584280" y="4869000"/>
            <a:chExt cx="3124080" cy="1260000"/>
          </a:xfrm>
        </p:grpSpPr>
        <p:sp>
          <p:nvSpPr>
            <p:cNvPr id="356" name="Rectangle 18"/>
            <p:cNvSpPr/>
            <p:nvPr/>
          </p:nvSpPr>
          <p:spPr>
            <a:xfrm>
              <a:off x="584280" y="48690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重力</a:t>
              </a: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势能曲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19"/>
                <p:cNvSpPr txBox="1"/>
                <p:nvPr/>
              </p:nvSpPr>
              <p:spPr>
                <a:xfrm>
                  <a:off x="701640" y="5464080"/>
                  <a:ext cx="232092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m>
                        <m:m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20"/>
          <p:cNvGrpSpPr/>
          <p:nvPr/>
        </p:nvGrpSpPr>
        <p:grpSpPr>
          <a:xfrm>
            <a:off x="6248520" y="4869000"/>
            <a:ext cx="2819160" cy="1143000"/>
            <a:chOff x="6248520" y="4869000"/>
            <a:chExt cx="2819160" cy="1143000"/>
          </a:xfrm>
        </p:grpSpPr>
        <p:sp>
          <p:nvSpPr>
            <p:cNvPr id="359" name="Rectangle 21"/>
            <p:cNvSpPr/>
            <p:nvPr/>
          </p:nvSpPr>
          <p:spPr>
            <a:xfrm>
              <a:off x="6248520" y="48690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引力</a:t>
              </a: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势能曲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Object 22"/>
                <p:cNvSpPr txBox="1"/>
                <p:nvPr/>
              </p:nvSpPr>
              <p:spPr>
                <a:xfrm>
                  <a:off x="6324480" y="5478840"/>
                  <a:ext cx="22856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m>
                        <m:m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1" name="Group 23"/>
          <p:cNvGrpSpPr/>
          <p:nvPr/>
        </p:nvGrpSpPr>
        <p:grpSpPr>
          <a:xfrm>
            <a:off x="3389400" y="1074600"/>
            <a:ext cx="2209320" cy="3326040"/>
            <a:chOff x="3389400" y="1074600"/>
            <a:chExt cx="2209320" cy="3326040"/>
          </a:xfrm>
        </p:grpSpPr>
        <p:grpSp>
          <p:nvGrpSpPr>
            <p:cNvPr id="362" name="Group 24"/>
            <p:cNvGrpSpPr/>
            <p:nvPr/>
          </p:nvGrpSpPr>
          <p:grpSpPr>
            <a:xfrm>
              <a:off x="3389400" y="2052720"/>
              <a:ext cx="2209320" cy="2347920"/>
              <a:chOff x="3389400" y="2052720"/>
              <a:chExt cx="2209320" cy="2347920"/>
            </a:xfrm>
          </p:grpSpPr>
          <p:grpSp>
            <p:nvGrpSpPr>
              <p:cNvPr id="363" name="Group 25"/>
              <p:cNvGrpSpPr/>
              <p:nvPr/>
            </p:nvGrpSpPr>
            <p:grpSpPr>
              <a:xfrm>
                <a:off x="3389400" y="2219040"/>
                <a:ext cx="2209320" cy="2181600"/>
                <a:chOff x="3389400" y="2219040"/>
                <a:chExt cx="2209320" cy="2181600"/>
              </a:xfrm>
            </p:grpSpPr>
            <p:sp>
              <p:nvSpPr>
                <p:cNvPr id="364" name="Line 26"/>
                <p:cNvSpPr/>
                <p:nvPr/>
              </p:nvSpPr>
              <p:spPr>
                <a:xfrm>
                  <a:off x="3389400" y="4033800"/>
                  <a:ext cx="2120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Line 27"/>
                <p:cNvSpPr/>
                <p:nvPr/>
              </p:nvSpPr>
              <p:spPr>
                <a:xfrm flipV="1">
                  <a:off x="4483080" y="2219040"/>
                  <a:ext cx="0" cy="181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6" name="Object 28"/>
                    <p:cNvSpPr txBox="1"/>
                    <p:nvPr/>
                  </p:nvSpPr>
                  <p:spPr>
                    <a:xfrm>
                      <a:off x="5270400" y="3640320"/>
                      <a:ext cx="328320" cy="393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67" name="Freeform 29"/>
                <p:cNvSpPr/>
                <p:nvPr/>
              </p:nvSpPr>
              <p:spPr>
                <a:xfrm>
                  <a:off x="3662280" y="2765520"/>
                  <a:ext cx="1638000" cy="1271520"/>
                </a:xfrm>
                <a:custGeom>
                  <a:avLst/>
                  <a:gdLst>
                    <a:gd name="textAreaLeft" fmla="*/ 0 w 1638000"/>
                    <a:gd name="textAreaRight" fmla="*/ 1638360 w 1638000"/>
                    <a:gd name="textAreaTop" fmla="*/ 0 h 1271520"/>
                    <a:gd name="textAreaBottom" fmla="*/ 1271880 h 1271520"/>
                  </a:gdLst>
                  <a:ahLst/>
                  <a:rect l="textAreaLeft" t="textAreaTop" r="textAreaRight" b="textAreaBottom"/>
                  <a:pathLst>
                    <a:path w="960" h="672">
                      <a:moveTo>
                        <a:pt x="0" y="0"/>
                      </a:moveTo>
                      <a:cubicBezTo>
                        <a:pt x="56" y="160"/>
                        <a:pt x="112" y="320"/>
                        <a:pt x="192" y="432"/>
                      </a:cubicBezTo>
                      <a:cubicBezTo>
                        <a:pt x="272" y="544"/>
                        <a:pt x="384" y="672"/>
                        <a:pt x="480" y="672"/>
                      </a:cubicBezTo>
                      <a:cubicBezTo>
                        <a:pt x="576" y="672"/>
                        <a:pt x="688" y="544"/>
                        <a:pt x="768" y="432"/>
                      </a:cubicBezTo>
                      <a:cubicBezTo>
                        <a:pt x="848" y="320"/>
                        <a:pt x="928" y="72"/>
                        <a:pt x="960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8" name="Object 30"/>
                    <p:cNvSpPr txBox="1"/>
                    <p:nvPr/>
                  </p:nvSpPr>
                  <p:spPr>
                    <a:xfrm>
                      <a:off x="4398840" y="4127760"/>
                      <a:ext cx="234720" cy="272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369" name="Object 31"/>
                  <p:cNvSpPr txBox="1"/>
                  <p:nvPr/>
                </p:nvSpPr>
                <p:spPr>
                  <a:xfrm>
                    <a:off x="3922560" y="2052720"/>
                    <a:ext cx="6091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0" name="Object 32"/>
                <p:cNvSpPr txBox="1"/>
                <p:nvPr/>
              </p:nvSpPr>
              <p:spPr>
                <a:xfrm>
                  <a:off x="3524040" y="1074600"/>
                  <a:ext cx="187128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1" name="Group 33"/>
          <p:cNvGrpSpPr/>
          <p:nvPr/>
        </p:nvGrpSpPr>
        <p:grpSpPr>
          <a:xfrm>
            <a:off x="6188040" y="1116000"/>
            <a:ext cx="2090520" cy="3154320"/>
            <a:chOff x="6188040" y="1116000"/>
            <a:chExt cx="2090520" cy="3154320"/>
          </a:xfrm>
        </p:grpSpPr>
        <p:grpSp>
          <p:nvGrpSpPr>
            <p:cNvPr id="372" name="Group 34"/>
            <p:cNvGrpSpPr/>
            <p:nvPr/>
          </p:nvGrpSpPr>
          <p:grpSpPr>
            <a:xfrm>
              <a:off x="6188040" y="1908000"/>
              <a:ext cx="1981080" cy="2362320"/>
              <a:chOff x="6188040" y="1908000"/>
              <a:chExt cx="1981080" cy="2362320"/>
            </a:xfrm>
          </p:grpSpPr>
          <p:grpSp>
            <p:nvGrpSpPr>
              <p:cNvPr id="373" name="Group 35"/>
              <p:cNvGrpSpPr/>
              <p:nvPr/>
            </p:nvGrpSpPr>
            <p:grpSpPr>
              <a:xfrm>
                <a:off x="6188040" y="2139840"/>
                <a:ext cx="1981080" cy="2130480"/>
                <a:chOff x="6188040" y="2139840"/>
                <a:chExt cx="1981080" cy="2130480"/>
              </a:xfrm>
            </p:grpSpPr>
            <p:sp>
              <p:nvSpPr>
                <p:cNvPr id="374" name="Line 36"/>
                <p:cNvSpPr/>
                <p:nvPr/>
              </p:nvSpPr>
              <p:spPr>
                <a:xfrm flipV="1">
                  <a:off x="6400800" y="2139840"/>
                  <a:ext cx="0" cy="213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75" name="Group 37"/>
                <p:cNvGrpSpPr/>
                <p:nvPr/>
              </p:nvGrpSpPr>
              <p:grpSpPr>
                <a:xfrm>
                  <a:off x="6188040" y="2354040"/>
                  <a:ext cx="1981080" cy="1836720"/>
                  <a:chOff x="6188040" y="2354040"/>
                  <a:chExt cx="1981080" cy="1836720"/>
                </a:xfrm>
              </p:grpSpPr>
              <p:sp>
                <p:nvSpPr>
                  <p:cNvPr id="376" name="Line 38"/>
                  <p:cNvSpPr/>
                  <p:nvPr/>
                </p:nvSpPr>
                <p:spPr>
                  <a:xfrm>
                    <a:off x="6400800" y="2692080"/>
                    <a:ext cx="1768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77" name="Object 39"/>
                      <p:cNvSpPr txBox="1"/>
                      <p:nvPr/>
                    </p:nvSpPr>
                    <p:spPr>
                      <a:xfrm>
                        <a:off x="7794360" y="2354040"/>
                        <a:ext cx="306360" cy="384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78" name="Freeform 40"/>
                  <p:cNvSpPr/>
                  <p:nvPr/>
                </p:nvSpPr>
                <p:spPr>
                  <a:xfrm>
                    <a:off x="6470640" y="2769840"/>
                    <a:ext cx="1485720" cy="1420920"/>
                  </a:xfrm>
                  <a:custGeom>
                    <a:avLst/>
                    <a:gdLst>
                      <a:gd name="textAreaLeft" fmla="*/ 0 w 1485720"/>
                      <a:gd name="textAreaRight" fmla="*/ 1486080 w 1485720"/>
                      <a:gd name="textAreaTop" fmla="*/ 0 h 1420920"/>
                      <a:gd name="textAreaBottom" fmla="*/ 1421280 h 1420920"/>
                    </a:gdLst>
                    <a:ahLst/>
                    <a:rect l="textAreaLeft" t="textAreaTop" r="textAreaRight" b="textAreaBottom"/>
                    <a:pathLst>
                      <a:path w="912" h="768">
                        <a:moveTo>
                          <a:pt x="0" y="768"/>
                        </a:moveTo>
                        <a:cubicBezTo>
                          <a:pt x="12" y="628"/>
                          <a:pt x="24" y="488"/>
                          <a:pt x="48" y="384"/>
                        </a:cubicBezTo>
                        <a:cubicBezTo>
                          <a:pt x="72" y="280"/>
                          <a:pt x="80" y="200"/>
                          <a:pt x="144" y="144"/>
                        </a:cubicBezTo>
                        <a:cubicBezTo>
                          <a:pt x="208" y="88"/>
                          <a:pt x="304" y="72"/>
                          <a:pt x="432" y="48"/>
                        </a:cubicBezTo>
                        <a:cubicBezTo>
                          <a:pt x="560" y="24"/>
                          <a:pt x="832" y="8"/>
                          <a:pt x="912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79" name="Object 41"/>
                      <p:cNvSpPr txBox="1"/>
                      <p:nvPr/>
                    </p:nvSpPr>
                    <p:spPr>
                      <a:xfrm>
                        <a:off x="6188040" y="2612880"/>
                        <a:ext cx="201600" cy="236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380" name="Object 42"/>
                  <p:cNvSpPr txBox="1"/>
                  <p:nvPr/>
                </p:nvSpPr>
                <p:spPr>
                  <a:xfrm>
                    <a:off x="6416640" y="1908000"/>
                    <a:ext cx="60948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1" name="Object 43"/>
                <p:cNvSpPr txBox="1"/>
                <p:nvPr/>
              </p:nvSpPr>
              <p:spPr>
                <a:xfrm>
                  <a:off x="6332400" y="1116000"/>
                  <a:ext cx="194616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G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'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2544480" y="28584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在一维情况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99440" y="2000160"/>
            <a:ext cx="2893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内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(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视为恒定的，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9560" y="3933720"/>
            <a:ext cx="5261040" cy="1297080"/>
            <a:chOff x="709560" y="3933720"/>
            <a:chExt cx="5261040" cy="1297080"/>
          </a:xfrm>
        </p:grpSpPr>
        <mc:AlternateContent>
          <mc:Choice xmlns:a14="http://schemas.microsoft.com/office/drawing/2010/main" Requires="a14">
            <p:sp>
              <p:nvSpPr>
                <p:cNvPr id="385" name="Object 6"/>
                <p:cNvSpPr txBox="1"/>
                <p:nvPr/>
              </p:nvSpPr>
              <p:spPr>
                <a:xfrm>
                  <a:off x="3183120" y="3933720"/>
                  <a:ext cx="278748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Text Box 12"/>
            <p:cNvSpPr/>
            <p:nvPr/>
          </p:nvSpPr>
          <p:spPr>
            <a:xfrm>
              <a:off x="709560" y="4182840"/>
              <a:ext cx="20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则在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，得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2857680" y="2428920"/>
                <a:ext cx="26510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0"/>
              <p:cNvSpPr txBox="1"/>
              <p:nvPr/>
            </p:nvSpPr>
            <p:spPr>
              <a:xfrm>
                <a:off x="714240" y="928800"/>
                <a:ext cx="787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9"/>
          <p:cNvSpPr/>
          <p:nvPr/>
        </p:nvSpPr>
        <p:spPr>
          <a:xfrm>
            <a:off x="750960" y="2118960"/>
            <a:ext cx="79246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 一竖直悬挂的弹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劲度系数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下端挂一物体，平衡时弹簧已有一伸长量。若以物体的平衡位置为竖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轴的原点，相应位作为弹性势能和重力势能的零点。试证：当物体的位置坐标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时，弹性势能和重力势能之和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900000" y="46537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在解题过程中强调零势能面的选取，选取不同时计算出的势能大小不同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116000" y="189000"/>
            <a:ext cx="40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58"/>
          <p:cNvGrpSpPr/>
          <p:nvPr/>
        </p:nvGrpSpPr>
        <p:grpSpPr>
          <a:xfrm>
            <a:off x="6653160" y="1054080"/>
            <a:ext cx="2414520" cy="4127400"/>
            <a:chOff x="6653160" y="1054080"/>
            <a:chExt cx="2414520" cy="4127400"/>
          </a:xfrm>
        </p:grpSpPr>
        <p:grpSp>
          <p:nvGrpSpPr>
            <p:cNvPr id="393" name="Group 46"/>
            <p:cNvGrpSpPr/>
            <p:nvPr/>
          </p:nvGrpSpPr>
          <p:grpSpPr>
            <a:xfrm>
              <a:off x="6653160" y="1054080"/>
              <a:ext cx="1981080" cy="3568680"/>
              <a:chOff x="6653160" y="1054080"/>
              <a:chExt cx="1981080" cy="3568680"/>
            </a:xfrm>
          </p:grpSpPr>
          <p:grpSp>
            <p:nvGrpSpPr>
              <p:cNvPr id="394" name="Group 18"/>
              <p:cNvGrpSpPr/>
              <p:nvPr/>
            </p:nvGrpSpPr>
            <p:grpSpPr>
              <a:xfrm>
                <a:off x="6653160" y="1054080"/>
                <a:ext cx="1981080" cy="165240"/>
                <a:chOff x="6653160" y="1054080"/>
                <a:chExt cx="1981080" cy="165240"/>
              </a:xfrm>
            </p:grpSpPr>
            <p:sp>
              <p:nvSpPr>
                <p:cNvPr id="395" name="Line 8"/>
                <p:cNvSpPr/>
                <p:nvPr/>
              </p:nvSpPr>
              <p:spPr>
                <a:xfrm>
                  <a:off x="6653160" y="1219320"/>
                  <a:ext cx="1981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6" name="Line 9"/>
                <p:cNvSpPr/>
                <p:nvPr/>
              </p:nvSpPr>
              <p:spPr>
                <a:xfrm flipV="1">
                  <a:off x="6653160" y="1066680"/>
                  <a:ext cx="15228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7" name="Line 10"/>
                <p:cNvSpPr/>
                <p:nvPr/>
              </p:nvSpPr>
              <p:spPr>
                <a:xfrm flipV="1">
                  <a:off x="6856200" y="1066680"/>
                  <a:ext cx="152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8" name="Line 11"/>
                <p:cNvSpPr/>
                <p:nvPr/>
              </p:nvSpPr>
              <p:spPr>
                <a:xfrm flipV="1">
                  <a:off x="7072200" y="1066680"/>
                  <a:ext cx="152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9" name="Line 12"/>
                <p:cNvSpPr/>
                <p:nvPr/>
              </p:nvSpPr>
              <p:spPr>
                <a:xfrm flipV="1">
                  <a:off x="7313400" y="1066680"/>
                  <a:ext cx="152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0" name="Line 13"/>
                <p:cNvSpPr/>
                <p:nvPr/>
              </p:nvSpPr>
              <p:spPr>
                <a:xfrm flipV="1">
                  <a:off x="7554960" y="1066680"/>
                  <a:ext cx="15228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1" name="Line 14"/>
                <p:cNvSpPr/>
                <p:nvPr/>
              </p:nvSpPr>
              <p:spPr>
                <a:xfrm flipV="1">
                  <a:off x="7783560" y="1066680"/>
                  <a:ext cx="15228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2" name="Line 15"/>
                <p:cNvSpPr/>
                <p:nvPr/>
              </p:nvSpPr>
              <p:spPr>
                <a:xfrm flipV="1">
                  <a:off x="8012160" y="1054080"/>
                  <a:ext cx="152280" cy="152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3" name="Line 16"/>
                <p:cNvSpPr/>
                <p:nvPr/>
              </p:nvSpPr>
              <p:spPr>
                <a:xfrm flipV="1">
                  <a:off x="8227800" y="1066680"/>
                  <a:ext cx="152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4" name="Line 17"/>
                <p:cNvSpPr/>
                <p:nvPr/>
              </p:nvSpPr>
              <p:spPr>
                <a:xfrm flipV="1">
                  <a:off x="8469360" y="1066680"/>
                  <a:ext cx="15228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05" name="Line 19"/>
              <p:cNvSpPr/>
              <p:nvPr/>
            </p:nvSpPr>
            <p:spPr>
              <a:xfrm>
                <a:off x="7592760" y="12193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Line 31"/>
              <p:cNvSpPr/>
              <p:nvPr/>
            </p:nvSpPr>
            <p:spPr>
              <a:xfrm>
                <a:off x="7592760" y="1511280"/>
                <a:ext cx="151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Line 32"/>
              <p:cNvSpPr/>
              <p:nvPr/>
            </p:nvSpPr>
            <p:spPr>
              <a:xfrm flipH="1">
                <a:off x="7427520" y="1663560"/>
                <a:ext cx="3045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Line 33"/>
              <p:cNvSpPr/>
              <p:nvPr/>
            </p:nvSpPr>
            <p:spPr>
              <a:xfrm>
                <a:off x="7427520" y="1879560"/>
                <a:ext cx="30456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Line 34"/>
              <p:cNvSpPr/>
              <p:nvPr/>
            </p:nvSpPr>
            <p:spPr>
              <a:xfrm flipH="1">
                <a:off x="7427520" y="2019240"/>
                <a:ext cx="3045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Line 35"/>
              <p:cNvSpPr/>
              <p:nvPr/>
            </p:nvSpPr>
            <p:spPr>
              <a:xfrm>
                <a:off x="7427520" y="2235240"/>
                <a:ext cx="30456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Line 36"/>
              <p:cNvSpPr/>
              <p:nvPr/>
            </p:nvSpPr>
            <p:spPr>
              <a:xfrm flipH="1">
                <a:off x="7427520" y="2374920"/>
                <a:ext cx="3045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Line 37"/>
              <p:cNvSpPr/>
              <p:nvPr/>
            </p:nvSpPr>
            <p:spPr>
              <a:xfrm>
                <a:off x="7427520" y="2590920"/>
                <a:ext cx="30456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Line 38"/>
              <p:cNvSpPr/>
              <p:nvPr/>
            </p:nvSpPr>
            <p:spPr>
              <a:xfrm flipH="1">
                <a:off x="7427520" y="2730600"/>
                <a:ext cx="3045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Line 39"/>
              <p:cNvSpPr/>
              <p:nvPr/>
            </p:nvSpPr>
            <p:spPr>
              <a:xfrm>
                <a:off x="7427520" y="2946240"/>
                <a:ext cx="30456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Line 40"/>
              <p:cNvSpPr/>
              <p:nvPr/>
            </p:nvSpPr>
            <p:spPr>
              <a:xfrm flipH="1">
                <a:off x="7414920" y="3085920"/>
                <a:ext cx="3045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Line 41"/>
              <p:cNvSpPr/>
              <p:nvPr/>
            </p:nvSpPr>
            <p:spPr>
              <a:xfrm>
                <a:off x="7414920" y="3301920"/>
                <a:ext cx="30456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7" name="Line 42"/>
              <p:cNvSpPr/>
              <p:nvPr/>
            </p:nvSpPr>
            <p:spPr>
              <a:xfrm flipH="1">
                <a:off x="7414920" y="3441600"/>
                <a:ext cx="3045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8" name="Line 43"/>
              <p:cNvSpPr/>
              <p:nvPr/>
            </p:nvSpPr>
            <p:spPr>
              <a:xfrm>
                <a:off x="7414920" y="3657600"/>
                <a:ext cx="177480" cy="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Line 44"/>
              <p:cNvSpPr/>
              <p:nvPr/>
            </p:nvSpPr>
            <p:spPr>
              <a:xfrm>
                <a:off x="7580160" y="37465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0" name="Rectangle 45"/>
              <p:cNvSpPr/>
              <p:nvPr/>
            </p:nvSpPr>
            <p:spPr>
              <a:xfrm>
                <a:off x="7160760" y="4013280"/>
                <a:ext cx="838080" cy="60948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1" name="Line 47"/>
            <p:cNvSpPr/>
            <p:nvPr/>
          </p:nvSpPr>
          <p:spPr>
            <a:xfrm>
              <a:off x="7796160" y="228600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Line 48"/>
            <p:cNvSpPr/>
            <p:nvPr/>
          </p:nvSpPr>
          <p:spPr>
            <a:xfrm>
              <a:off x="7808760" y="2666880"/>
              <a:ext cx="97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Line 49"/>
            <p:cNvSpPr/>
            <p:nvPr/>
          </p:nvSpPr>
          <p:spPr>
            <a:xfrm>
              <a:off x="7796160" y="361944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Line 50"/>
            <p:cNvSpPr/>
            <p:nvPr/>
          </p:nvSpPr>
          <p:spPr>
            <a:xfrm>
              <a:off x="8545320" y="266688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Line 51"/>
            <p:cNvSpPr/>
            <p:nvPr/>
          </p:nvSpPr>
          <p:spPr>
            <a:xfrm>
              <a:off x="81007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Line 52"/>
            <p:cNvSpPr/>
            <p:nvPr/>
          </p:nvSpPr>
          <p:spPr>
            <a:xfrm>
              <a:off x="8100720" y="265428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4"/>
                <p:cNvSpPr txBox="1"/>
                <p:nvPr/>
              </p:nvSpPr>
              <p:spPr>
                <a:xfrm>
                  <a:off x="8177040" y="2247840"/>
                  <a:ext cx="3268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Object 5"/>
                <p:cNvSpPr txBox="1"/>
                <p:nvPr/>
              </p:nvSpPr>
              <p:spPr>
                <a:xfrm>
                  <a:off x="8173800" y="2965320"/>
                  <a:ext cx="2574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6"/>
                <p:cNvSpPr txBox="1"/>
                <p:nvPr/>
              </p:nvSpPr>
              <p:spPr>
                <a:xfrm>
                  <a:off x="8656560" y="4865760"/>
                  <a:ext cx="257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Object 7"/>
                <p:cNvSpPr txBox="1"/>
                <p:nvPr/>
              </p:nvSpPr>
              <p:spPr>
                <a:xfrm>
                  <a:off x="8786520" y="2517840"/>
                  <a:ext cx="2811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1" name="Text Box 19"/>
          <p:cNvSpPr/>
          <p:nvPr/>
        </p:nvSpPr>
        <p:spPr>
          <a:xfrm>
            <a:off x="369720" y="838800"/>
            <a:ext cx="610740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： 如图建立坐标系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设在平衡时弹簧已被拉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2374920" y="2514600"/>
                <a:ext cx="158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3" name="Text Box 19"/>
          <p:cNvSpPr/>
          <p:nvPr/>
        </p:nvSpPr>
        <p:spPr>
          <a:xfrm>
            <a:off x="900000" y="3245400"/>
            <a:ext cx="578988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当物体再下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时，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弹簧弹性势能零点，则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933480" y="5029200"/>
                <a:ext cx="67626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9"/>
          <p:cNvSpPr/>
          <p:nvPr/>
        </p:nvSpPr>
        <p:spPr>
          <a:xfrm>
            <a:off x="406440" y="914040"/>
            <a:ext cx="57895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平衡位置为重力势能零点，则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1738440" y="1860480"/>
                <a:ext cx="3519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Text Box 19"/>
          <p:cNvSpPr/>
          <p:nvPr/>
        </p:nvSpPr>
        <p:spPr>
          <a:xfrm>
            <a:off x="406440" y="2607840"/>
            <a:ext cx="57895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总势能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3"/>
              <p:cNvSpPr txBox="1"/>
              <p:nvPr/>
            </p:nvSpPr>
            <p:spPr>
              <a:xfrm>
                <a:off x="749160" y="3427560"/>
                <a:ext cx="793764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419640" y="907920"/>
            <a:ext cx="547200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4"/>
          <p:cNvSpPr/>
          <p:nvPr/>
        </p:nvSpPr>
        <p:spPr>
          <a:xfrm>
            <a:off x="6086520" y="2505240"/>
            <a:ext cx="273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238800" y="1835280"/>
            <a:ext cx="1368360" cy="612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6730920" y="2523960"/>
                <a:ext cx="3142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" name="Group 7"/>
          <p:cNvGrpSpPr/>
          <p:nvPr/>
        </p:nvGrpSpPr>
        <p:grpSpPr>
          <a:xfrm>
            <a:off x="3876840" y="1530000"/>
            <a:ext cx="1976040" cy="468360"/>
            <a:chOff x="3876840" y="1530000"/>
            <a:chExt cx="1976040" cy="468360"/>
          </a:xfrm>
        </p:grpSpPr>
        <p:sp>
          <p:nvSpPr>
            <p:cNvPr id="47" name="Line 8"/>
            <p:cNvSpPr/>
            <p:nvPr/>
          </p:nvSpPr>
          <p:spPr>
            <a:xfrm flipV="1">
              <a:off x="4017960" y="1530000"/>
              <a:ext cx="1173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9"/>
            <p:cNvSpPr/>
            <p:nvPr/>
          </p:nvSpPr>
          <p:spPr>
            <a:xfrm flipH="1" flipV="1">
              <a:off x="4135320" y="1530360"/>
              <a:ext cx="117360" cy="46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" name="Group 10"/>
            <p:cNvGrpSpPr/>
            <p:nvPr/>
          </p:nvGrpSpPr>
          <p:grpSpPr>
            <a:xfrm>
              <a:off x="4253040" y="1530000"/>
              <a:ext cx="234720" cy="467640"/>
              <a:chOff x="4253040" y="1530000"/>
              <a:chExt cx="234720" cy="467640"/>
            </a:xfrm>
          </p:grpSpPr>
          <p:sp>
            <p:nvSpPr>
              <p:cNvPr id="50" name="Line 11"/>
              <p:cNvSpPr/>
              <p:nvPr/>
            </p:nvSpPr>
            <p:spPr>
              <a:xfrm flipV="1">
                <a:off x="4253040" y="1530000"/>
                <a:ext cx="11736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Line 12"/>
              <p:cNvSpPr/>
              <p:nvPr/>
            </p:nvSpPr>
            <p:spPr>
              <a:xfrm flipH="1" flipV="1">
                <a:off x="4370040" y="1530000"/>
                <a:ext cx="11772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13"/>
            <p:cNvGrpSpPr/>
            <p:nvPr/>
          </p:nvGrpSpPr>
          <p:grpSpPr>
            <a:xfrm>
              <a:off x="4488480" y="1530000"/>
              <a:ext cx="234720" cy="467640"/>
              <a:chOff x="4488480" y="1530000"/>
              <a:chExt cx="234720" cy="467640"/>
            </a:xfrm>
          </p:grpSpPr>
          <p:sp>
            <p:nvSpPr>
              <p:cNvPr id="53" name="Line 14"/>
              <p:cNvSpPr/>
              <p:nvPr/>
            </p:nvSpPr>
            <p:spPr>
              <a:xfrm flipV="1">
                <a:off x="4488480" y="1530000"/>
                <a:ext cx="11736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Line 15"/>
              <p:cNvSpPr/>
              <p:nvPr/>
            </p:nvSpPr>
            <p:spPr>
              <a:xfrm flipH="1" flipV="1">
                <a:off x="4605480" y="1530000"/>
                <a:ext cx="11772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4723560" y="1530360"/>
              <a:ext cx="704880" cy="467280"/>
              <a:chOff x="4723560" y="1530360"/>
              <a:chExt cx="704880" cy="467280"/>
            </a:xfrm>
          </p:grpSpPr>
          <p:grpSp>
            <p:nvGrpSpPr>
              <p:cNvPr id="56" name="Group 17"/>
              <p:cNvGrpSpPr/>
              <p:nvPr/>
            </p:nvGrpSpPr>
            <p:grpSpPr>
              <a:xfrm>
                <a:off x="4723560" y="1530360"/>
                <a:ext cx="234720" cy="467280"/>
                <a:chOff x="4723560" y="1530360"/>
                <a:chExt cx="234720" cy="467280"/>
              </a:xfrm>
            </p:grpSpPr>
            <p:sp>
              <p:nvSpPr>
                <p:cNvPr id="57" name="Line 18"/>
                <p:cNvSpPr/>
                <p:nvPr/>
              </p:nvSpPr>
              <p:spPr>
                <a:xfrm flipV="1">
                  <a:off x="4723560" y="1530360"/>
                  <a:ext cx="117360" cy="46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 flipH="1" flipV="1">
                  <a:off x="4840560" y="1530360"/>
                  <a:ext cx="117720" cy="46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" name="Group 20"/>
              <p:cNvGrpSpPr/>
              <p:nvPr/>
            </p:nvGrpSpPr>
            <p:grpSpPr>
              <a:xfrm>
                <a:off x="4958640" y="1530360"/>
                <a:ext cx="234720" cy="467280"/>
                <a:chOff x="4958640" y="1530360"/>
                <a:chExt cx="234720" cy="467280"/>
              </a:xfrm>
            </p:grpSpPr>
            <p:sp>
              <p:nvSpPr>
                <p:cNvPr id="60" name="Line 21"/>
                <p:cNvSpPr/>
                <p:nvPr/>
              </p:nvSpPr>
              <p:spPr>
                <a:xfrm flipV="1">
                  <a:off x="4958640" y="1530360"/>
                  <a:ext cx="117360" cy="46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 flipH="1" flipV="1">
                  <a:off x="5075640" y="1530360"/>
                  <a:ext cx="117720" cy="46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" name="Group 23"/>
              <p:cNvGrpSpPr/>
              <p:nvPr/>
            </p:nvGrpSpPr>
            <p:grpSpPr>
              <a:xfrm>
                <a:off x="5193720" y="1530360"/>
                <a:ext cx="234720" cy="467280"/>
                <a:chOff x="5193720" y="1530360"/>
                <a:chExt cx="234720" cy="467280"/>
              </a:xfrm>
            </p:grpSpPr>
            <p:sp>
              <p:nvSpPr>
                <p:cNvPr id="63" name="Line 24"/>
                <p:cNvSpPr/>
                <p:nvPr/>
              </p:nvSpPr>
              <p:spPr>
                <a:xfrm flipV="1">
                  <a:off x="5193720" y="1530360"/>
                  <a:ext cx="117360" cy="46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 flipH="1" flipV="1">
                  <a:off x="5310720" y="1530360"/>
                  <a:ext cx="117720" cy="46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5" name="Group 26"/>
            <p:cNvGrpSpPr/>
            <p:nvPr/>
          </p:nvGrpSpPr>
          <p:grpSpPr>
            <a:xfrm>
              <a:off x="5429520" y="1530000"/>
              <a:ext cx="234720" cy="467640"/>
              <a:chOff x="5429520" y="1530000"/>
              <a:chExt cx="234720" cy="467640"/>
            </a:xfrm>
          </p:grpSpPr>
          <p:sp>
            <p:nvSpPr>
              <p:cNvPr id="66" name="Line 27"/>
              <p:cNvSpPr/>
              <p:nvPr/>
            </p:nvSpPr>
            <p:spPr>
              <a:xfrm flipV="1">
                <a:off x="5429520" y="1530000"/>
                <a:ext cx="11736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Line 28"/>
              <p:cNvSpPr/>
              <p:nvPr/>
            </p:nvSpPr>
            <p:spPr>
              <a:xfrm flipH="1" flipV="1">
                <a:off x="5546520" y="1530000"/>
                <a:ext cx="11772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" name="Line 29"/>
            <p:cNvSpPr/>
            <p:nvPr/>
          </p:nvSpPr>
          <p:spPr>
            <a:xfrm flipV="1">
              <a:off x="5664960" y="1717200"/>
              <a:ext cx="4680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5712120" y="1717560"/>
              <a:ext cx="14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3876840" y="1810800"/>
              <a:ext cx="14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" name="Freeform 32"/>
          <p:cNvSpPr/>
          <p:nvPr/>
        </p:nvSpPr>
        <p:spPr>
          <a:xfrm>
            <a:off x="7156440" y="1835280"/>
            <a:ext cx="584280" cy="1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68" h="1">
                <a:moveTo>
                  <a:pt x="36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3"/>
              <p:cNvSpPr txBox="1"/>
              <p:nvPr/>
            </p:nvSpPr>
            <p:spPr>
              <a:xfrm>
                <a:off x="7000920" y="1378080"/>
                <a:ext cx="350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4"/>
              <p:cNvSpPr txBox="1"/>
              <p:nvPr/>
            </p:nvSpPr>
            <p:spPr>
              <a:xfrm>
                <a:off x="8448840" y="2505240"/>
                <a:ext cx="34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5"/>
              <p:cNvSpPr txBox="1"/>
              <p:nvPr/>
            </p:nvSpPr>
            <p:spPr>
              <a:xfrm>
                <a:off x="5778360" y="2446200"/>
                <a:ext cx="3034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 Box 36"/>
          <p:cNvSpPr/>
          <p:nvPr/>
        </p:nvSpPr>
        <p:spPr>
          <a:xfrm>
            <a:off x="1071720" y="214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性力作功的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000080" y="4643280"/>
                <a:ext cx="30751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Line 40"/>
          <p:cNvSpPr/>
          <p:nvPr/>
        </p:nvSpPr>
        <p:spPr>
          <a:xfrm>
            <a:off x="7738920" y="183528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1"/>
              <p:cNvSpPr txBox="1"/>
              <p:nvPr/>
            </p:nvSpPr>
            <p:spPr>
              <a:xfrm>
                <a:off x="8123400" y="1301760"/>
                <a:ext cx="617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42"/>
          <p:cNvSpPr/>
          <p:nvPr/>
        </p:nvSpPr>
        <p:spPr>
          <a:xfrm>
            <a:off x="5738760" y="1378080"/>
            <a:ext cx="695520" cy="779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Line 43"/>
          <p:cNvSpPr/>
          <p:nvPr/>
        </p:nvSpPr>
        <p:spPr>
          <a:xfrm>
            <a:off x="6081840" y="2381400"/>
            <a:ext cx="0" cy="433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Freeform 44"/>
          <p:cNvSpPr/>
          <p:nvPr/>
        </p:nvSpPr>
        <p:spPr>
          <a:xfrm>
            <a:off x="7765920" y="2417760"/>
            <a:ext cx="3240" cy="368280"/>
          </a:xfrm>
          <a:custGeom>
            <a:avLst/>
            <a:gdLst>
              <a:gd name="textAreaLeft" fmla="*/ 0 w 3240"/>
              <a:gd name="textAreaRight" fmla="*/ 3600 w 32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" h="232">
                <a:moveTo>
                  <a:pt x="0" y="0"/>
                </a:moveTo>
                <a:lnTo>
                  <a:pt x="2" y="23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7458120" y="1378080"/>
            <a:ext cx="685800" cy="779400"/>
          </a:xfrm>
          <a:prstGeom prst="rect">
            <a:avLst/>
          </a:prstGeom>
          <a:noFill/>
          <a:ln w="2844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46"/>
          <p:cNvSpPr/>
          <p:nvPr/>
        </p:nvSpPr>
        <p:spPr>
          <a:xfrm>
            <a:off x="7047000" y="26701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7"/>
          <p:cNvSpPr/>
          <p:nvPr/>
        </p:nvSpPr>
        <p:spPr>
          <a:xfrm flipH="1">
            <a:off x="6095880" y="26701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8"/>
              <p:cNvSpPr txBox="1"/>
              <p:nvPr/>
            </p:nvSpPr>
            <p:spPr>
              <a:xfrm>
                <a:off x="7821720" y="2454120"/>
                <a:ext cx="363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49"/>
          <p:cNvSpPr/>
          <p:nvPr/>
        </p:nvSpPr>
        <p:spPr>
          <a:xfrm>
            <a:off x="3724200" y="2139840"/>
            <a:ext cx="4800600" cy="246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3705120" y="1239840"/>
            <a:ext cx="17172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1"/>
          <p:cNvSpPr/>
          <p:nvPr/>
        </p:nvSpPr>
        <p:spPr>
          <a:xfrm flipH="1" flipV="1">
            <a:off x="6086160" y="1060200"/>
            <a:ext cx="4680" cy="10969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428760" y="5572080"/>
            <a:ext cx="46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弹力的功仅与物体始末位置有关而与过程无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Group 54"/>
          <p:cNvGrpSpPr/>
          <p:nvPr/>
        </p:nvGrpSpPr>
        <p:grpSpPr>
          <a:xfrm>
            <a:off x="5435640" y="3213000"/>
            <a:ext cx="3456000" cy="2813760"/>
            <a:chOff x="5435640" y="3213000"/>
            <a:chExt cx="3456000" cy="2813760"/>
          </a:xfrm>
        </p:grpSpPr>
        <p:sp>
          <p:nvSpPr>
            <p:cNvPr id="91" name="Line 55"/>
            <p:cNvSpPr/>
            <p:nvPr/>
          </p:nvSpPr>
          <p:spPr>
            <a:xfrm flipV="1">
              <a:off x="5954760" y="3288960"/>
              <a:ext cx="0" cy="205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Line 56"/>
            <p:cNvSpPr/>
            <p:nvPr/>
          </p:nvSpPr>
          <p:spPr>
            <a:xfrm>
              <a:off x="5940360" y="534816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7"/>
            <p:cNvSpPr/>
            <p:nvPr/>
          </p:nvSpPr>
          <p:spPr>
            <a:xfrm flipV="1">
              <a:off x="5940360" y="3590640"/>
              <a:ext cx="2362320" cy="17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6724440" y="3794040"/>
              <a:ext cx="1306800" cy="1546200"/>
            </a:xfrm>
            <a:custGeom>
              <a:avLst/>
              <a:gdLst>
                <a:gd name="textAreaLeft" fmla="*/ 0 w 1306800"/>
                <a:gd name="textAreaRight" fmla="*/ 1307160 w 1306800"/>
                <a:gd name="textAreaTop" fmla="*/ 0 h 1546200"/>
                <a:gd name="textAreaBottom" fmla="*/ 1546560 h 1546200"/>
              </a:gdLst>
              <a:ahLst/>
              <a:rect l="textAreaLeft" t="textAreaTop" r="textAreaRight" b="textAreaBottom"/>
              <a:pathLst>
                <a:path w="823" h="974">
                  <a:moveTo>
                    <a:pt x="0" y="618"/>
                  </a:moveTo>
                  <a:cubicBezTo>
                    <a:pt x="0" y="737"/>
                    <a:pt x="0" y="855"/>
                    <a:pt x="0" y="974"/>
                  </a:cubicBezTo>
                  <a:lnTo>
                    <a:pt x="823" y="974"/>
                  </a:lnTo>
                  <a:lnTo>
                    <a:pt x="821" y="0"/>
                  </a:lnTo>
                  <a:lnTo>
                    <a:pt x="0" y="61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59"/>
            <p:cNvSpPr/>
            <p:nvPr/>
          </p:nvSpPr>
          <p:spPr>
            <a:xfrm>
              <a:off x="7380360" y="4268520"/>
              <a:ext cx="0" cy="10796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60"/>
            <p:cNvSpPr/>
            <p:nvPr/>
          </p:nvSpPr>
          <p:spPr>
            <a:xfrm>
              <a:off x="7408800" y="5290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61"/>
            <p:cNvSpPr/>
            <p:nvPr/>
          </p:nvSpPr>
          <p:spPr>
            <a:xfrm>
              <a:off x="7351560" y="5290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Text Box 62"/>
            <p:cNvSpPr/>
            <p:nvPr/>
          </p:nvSpPr>
          <p:spPr>
            <a:xfrm>
              <a:off x="8316720" y="5229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63"/>
            <p:cNvSpPr/>
            <p:nvPr/>
          </p:nvSpPr>
          <p:spPr>
            <a:xfrm>
              <a:off x="5506920" y="321300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64"/>
            <p:cNvSpPr/>
            <p:nvPr/>
          </p:nvSpPr>
          <p:spPr>
            <a:xfrm>
              <a:off x="7162560" y="556704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65"/>
            <p:cNvSpPr/>
            <p:nvPr/>
          </p:nvSpPr>
          <p:spPr>
            <a:xfrm>
              <a:off x="7091280" y="55213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66"/>
            <p:cNvSpPr/>
            <p:nvPr/>
          </p:nvSpPr>
          <p:spPr>
            <a:xfrm flipH="1">
              <a:off x="7380360" y="55213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67"/>
            <p:cNvSpPr/>
            <p:nvPr/>
          </p:nvSpPr>
          <p:spPr>
            <a:xfrm>
              <a:off x="7020000" y="3794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Rectangle 68"/>
            <p:cNvSpPr/>
            <p:nvPr/>
          </p:nvSpPr>
          <p:spPr>
            <a:xfrm>
              <a:off x="5435640" y="3216240"/>
              <a:ext cx="3456000" cy="280800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69"/>
            <p:cNvSpPr/>
            <p:nvPr/>
          </p:nvSpPr>
          <p:spPr>
            <a:xfrm>
              <a:off x="7812000" y="5232240"/>
              <a:ext cx="5032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70"/>
            <p:cNvSpPr/>
            <p:nvPr/>
          </p:nvSpPr>
          <p:spPr>
            <a:xfrm>
              <a:off x="6443640" y="5232240"/>
              <a:ext cx="5032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Text Box 71"/>
            <p:cNvSpPr/>
            <p:nvPr/>
          </p:nvSpPr>
          <p:spPr>
            <a:xfrm>
              <a:off x="5578560" y="52894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42"/>
          <p:cNvGrpSpPr/>
          <p:nvPr/>
        </p:nvGrpSpPr>
        <p:grpSpPr>
          <a:xfrm>
            <a:off x="601200" y="1143000"/>
            <a:ext cx="2510280" cy="1102680"/>
            <a:chOff x="601200" y="1143000"/>
            <a:chExt cx="2510280" cy="1102680"/>
          </a:xfrm>
        </p:grpSpPr>
        <p:grpSp>
          <p:nvGrpSpPr>
            <p:cNvPr id="109" name="Group 43"/>
            <p:cNvGrpSpPr/>
            <p:nvPr/>
          </p:nvGrpSpPr>
          <p:grpSpPr>
            <a:xfrm>
              <a:off x="601200" y="1143000"/>
              <a:ext cx="2510280" cy="489960"/>
              <a:chOff x="601200" y="1143000"/>
              <a:chExt cx="2510280" cy="489960"/>
            </a:xfrm>
          </p:grpSpPr>
          <p:sp>
            <p:nvSpPr>
              <p:cNvPr id="110" name="Text Box 44"/>
              <p:cNvSpPr/>
              <p:nvPr/>
            </p:nvSpPr>
            <p:spPr>
              <a:xfrm>
                <a:off x="601200" y="11732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力函数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Object 12"/>
                  <p:cNvSpPr txBox="1"/>
                  <p:nvPr/>
                </p:nvSpPr>
                <p:spPr>
                  <a:xfrm>
                    <a:off x="1511280" y="1143000"/>
                    <a:ext cx="1600200" cy="46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rPr>
                            <m:lit/>
                            <m:nor/>
                          </m:rPr>
                          <m:t xml:space="preserve">kx {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12" name="Group 46"/>
            <p:cNvGrpSpPr/>
            <p:nvPr/>
          </p:nvGrpSpPr>
          <p:grpSpPr>
            <a:xfrm>
              <a:off x="601200" y="1714680"/>
              <a:ext cx="2499120" cy="531000"/>
              <a:chOff x="601200" y="1714680"/>
              <a:chExt cx="2499120" cy="531000"/>
            </a:xfrm>
          </p:grpSpPr>
          <p:sp>
            <p:nvSpPr>
              <p:cNvPr id="113" name="Text Box 47"/>
              <p:cNvSpPr/>
              <p:nvPr/>
            </p:nvSpPr>
            <p:spPr>
              <a:xfrm>
                <a:off x="601200" y="17859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元位移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" name="Object 13"/>
                  <p:cNvSpPr txBox="1"/>
                  <p:nvPr/>
                </p:nvSpPr>
                <p:spPr>
                  <a:xfrm>
                    <a:off x="1500120" y="1714680"/>
                    <a:ext cx="1600200" cy="50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642960" y="3643200"/>
                <a:ext cx="43480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500040" y="2786040"/>
                <a:ext cx="3664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dx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1500120" y="1714680"/>
                <a:ext cx="2693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'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Rectangle 3"/>
          <p:cNvSpPr/>
          <p:nvPr/>
        </p:nvSpPr>
        <p:spPr>
          <a:xfrm>
            <a:off x="1071720" y="2858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有引力作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714240" y="928800"/>
            <a:ext cx="4496040" cy="581400"/>
            <a:chOff x="714240" y="928800"/>
            <a:chExt cx="4496040" cy="581400"/>
          </a:xfrm>
        </p:grpSpPr>
        <p:sp>
          <p:nvSpPr>
            <p:cNvPr id="120" name="Rectangle 6"/>
            <p:cNvSpPr/>
            <p:nvPr/>
          </p:nvSpPr>
          <p:spPr>
            <a:xfrm>
              <a:off x="714240" y="928800"/>
              <a:ext cx="449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对    的万有引力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7"/>
                <p:cNvSpPr txBox="1"/>
                <p:nvPr/>
              </p:nvSpPr>
              <p:spPr>
                <a:xfrm>
                  <a:off x="774720" y="936720"/>
                  <a:ext cx="585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Object 8"/>
                <p:cNvSpPr txBox="1"/>
                <p:nvPr/>
              </p:nvSpPr>
              <p:spPr>
                <a:xfrm>
                  <a:off x="1695240" y="1062000"/>
                  <a:ext cx="419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Group 9"/>
          <p:cNvGrpSpPr/>
          <p:nvPr/>
        </p:nvGrpSpPr>
        <p:grpSpPr>
          <a:xfrm>
            <a:off x="642960" y="3000240"/>
            <a:ext cx="4897440" cy="581400"/>
            <a:chOff x="642960" y="3000240"/>
            <a:chExt cx="4897440" cy="581400"/>
          </a:xfrm>
        </p:grpSpPr>
        <mc:AlternateContent>
          <mc:Choice xmlns:a14="http://schemas.microsoft.com/office/drawing/2010/main" Requires="a14">
            <p:sp>
              <p:nvSpPr>
                <p:cNvPr id="124" name="Object 10"/>
                <p:cNvSpPr txBox="1"/>
                <p:nvPr/>
              </p:nvSpPr>
              <p:spPr>
                <a:xfrm>
                  <a:off x="642960" y="3146400"/>
                  <a:ext cx="419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Text Box 11"/>
            <p:cNvSpPr/>
            <p:nvPr/>
          </p:nvSpPr>
          <p:spPr>
            <a:xfrm>
              <a:off x="947880" y="3000240"/>
              <a:ext cx="459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移动    时，  作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元功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为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12"/>
                <p:cNvSpPr txBox="1"/>
                <p:nvPr/>
              </p:nvSpPr>
              <p:spPr>
                <a:xfrm>
                  <a:off x="2948040" y="3017520"/>
                  <a:ext cx="46656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Object 13"/>
                <p:cNvSpPr txBox="1"/>
                <p:nvPr/>
              </p:nvSpPr>
              <p:spPr>
                <a:xfrm>
                  <a:off x="1809720" y="3046320"/>
                  <a:ext cx="5461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8" name="Object 14"/>
              <p:cNvSpPr txBox="1"/>
              <p:nvPr/>
            </p:nvSpPr>
            <p:spPr>
              <a:xfrm>
                <a:off x="571680" y="3857760"/>
                <a:ext cx="23032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5"/>
              <p:cNvSpPr txBox="1"/>
              <p:nvPr/>
            </p:nvSpPr>
            <p:spPr>
              <a:xfrm>
                <a:off x="2857680" y="3571920"/>
                <a:ext cx="3159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'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Group 16"/>
          <p:cNvGrpSpPr/>
          <p:nvPr/>
        </p:nvGrpSpPr>
        <p:grpSpPr>
          <a:xfrm>
            <a:off x="6012000" y="981000"/>
            <a:ext cx="2879640" cy="3384360"/>
            <a:chOff x="6012000" y="981000"/>
            <a:chExt cx="2879640" cy="3384360"/>
          </a:xfrm>
        </p:grpSpPr>
        <p:sp>
          <p:nvSpPr>
            <p:cNvPr id="131" name="Rectangle 17"/>
            <p:cNvSpPr/>
            <p:nvPr/>
          </p:nvSpPr>
          <p:spPr>
            <a:xfrm>
              <a:off x="6012000" y="981000"/>
              <a:ext cx="2879640" cy="33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18"/>
            <p:cNvSpPr/>
            <p:nvPr/>
          </p:nvSpPr>
          <p:spPr>
            <a:xfrm>
              <a:off x="6444000" y="2709720"/>
              <a:ext cx="360360" cy="3808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6196320" y="1630080"/>
              <a:ext cx="2539800" cy="2535480"/>
            </a:xfrm>
            <a:custGeom>
              <a:avLst/>
              <a:gdLst>
                <a:gd name="textAreaLeft" fmla="*/ 0 w 2539800"/>
                <a:gd name="textAreaRight" fmla="*/ 2540160 w 2539800"/>
                <a:gd name="textAreaTop" fmla="*/ 0 h 2535480"/>
                <a:gd name="textAreaBottom" fmla="*/ 2535840 h 2535480"/>
              </a:gdLst>
              <a:ahLst/>
              <a:rect l="textAreaLeft" t="textAreaTop" r="textAreaRight" b="textAreaBottom"/>
              <a:pathLst>
                <a:path w="1600" h="1597">
                  <a:moveTo>
                    <a:pt x="0" y="189"/>
                  </a:moveTo>
                  <a:cubicBezTo>
                    <a:pt x="53" y="166"/>
                    <a:pt x="189" y="82"/>
                    <a:pt x="320" y="52"/>
                  </a:cubicBezTo>
                  <a:cubicBezTo>
                    <a:pt x="451" y="22"/>
                    <a:pt x="659" y="0"/>
                    <a:pt x="787" y="6"/>
                  </a:cubicBezTo>
                  <a:cubicBezTo>
                    <a:pt x="915" y="12"/>
                    <a:pt x="986" y="37"/>
                    <a:pt x="1088" y="89"/>
                  </a:cubicBezTo>
                  <a:cubicBezTo>
                    <a:pt x="1190" y="141"/>
                    <a:pt x="1317" y="204"/>
                    <a:pt x="1399" y="317"/>
                  </a:cubicBezTo>
                  <a:cubicBezTo>
                    <a:pt x="1481" y="430"/>
                    <a:pt x="1564" y="629"/>
                    <a:pt x="1582" y="765"/>
                  </a:cubicBezTo>
                  <a:cubicBezTo>
                    <a:pt x="1600" y="901"/>
                    <a:pt x="1559" y="992"/>
                    <a:pt x="1509" y="1131"/>
                  </a:cubicBezTo>
                  <a:cubicBezTo>
                    <a:pt x="1459" y="1270"/>
                    <a:pt x="1328" y="1500"/>
                    <a:pt x="1280" y="1597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6577200" y="1773000"/>
              <a:ext cx="1451160" cy="112896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1128960"/>
                <a:gd name="textAreaBottom" fmla="*/ 1129320 h 1128960"/>
              </a:gdLst>
              <a:ahLst/>
              <a:rect l="textAreaLeft" t="textAreaTop" r="textAreaRight" b="textAreaBottom"/>
              <a:pathLst>
                <a:path w="848" h="630">
                  <a:moveTo>
                    <a:pt x="0" y="630"/>
                  </a:moveTo>
                  <a:lnTo>
                    <a:pt x="848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1"/>
            <p:cNvSpPr/>
            <p:nvPr/>
          </p:nvSpPr>
          <p:spPr>
            <a:xfrm flipV="1">
              <a:off x="6577200" y="2277720"/>
              <a:ext cx="1954080" cy="6238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>
              <a:off x="7985160" y="1788840"/>
              <a:ext cx="546120" cy="489240"/>
            </a:xfrm>
            <a:prstGeom prst="line">
              <a:avLst/>
            </a:prstGeom>
            <a:ln w="316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23"/>
                <p:cNvSpPr txBox="1"/>
                <p:nvPr/>
              </p:nvSpPr>
              <p:spPr>
                <a:xfrm>
                  <a:off x="6980400" y="1881000"/>
                  <a:ext cx="3272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24"/>
                <p:cNvSpPr txBox="1"/>
                <p:nvPr/>
              </p:nvSpPr>
              <p:spPr>
                <a:xfrm>
                  <a:off x="7164720" y="2657160"/>
                  <a:ext cx="936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25"/>
                <p:cNvSpPr txBox="1"/>
                <p:nvPr/>
              </p:nvSpPr>
              <p:spPr>
                <a:xfrm>
                  <a:off x="7739280" y="1919160"/>
                  <a:ext cx="50328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AutoShape 26"/>
            <p:cNvSpPr/>
            <p:nvPr/>
          </p:nvSpPr>
          <p:spPr>
            <a:xfrm>
              <a:off x="6645600" y="1644480"/>
              <a:ext cx="156960" cy="139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4"/>
                  </a:moveTo>
                  <a:lnTo>
                    <a:pt x="3838" y="3864"/>
                  </a:lnTo>
                  <a:lnTo>
                    <a:pt x="5051" y="0"/>
                  </a:lnTo>
                  <a:lnTo>
                    <a:pt x="6162" y="3864"/>
                  </a:lnTo>
                  <a:lnTo>
                    <a:pt x="10000" y="3864"/>
                  </a:lnTo>
                  <a:lnTo>
                    <a:pt x="6869" y="6136"/>
                  </a:lnTo>
                  <a:lnTo>
                    <a:pt x="8081" y="10000"/>
                  </a:lnTo>
                  <a:lnTo>
                    <a:pt x="5051" y="7614"/>
                  </a:lnTo>
                  <a:lnTo>
                    <a:pt x="1919" y="10000"/>
                  </a:lnTo>
                  <a:lnTo>
                    <a:pt x="3131" y="6136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 flipV="1">
              <a:off x="6577200" y="1701720"/>
              <a:ext cx="154080" cy="120024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>
              <a:off x="6577200" y="2901960"/>
              <a:ext cx="1811520" cy="10317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9"/>
                <p:cNvSpPr txBox="1"/>
                <p:nvPr/>
              </p:nvSpPr>
              <p:spPr>
                <a:xfrm>
                  <a:off x="7739280" y="1414440"/>
                  <a:ext cx="290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30"/>
                <p:cNvSpPr txBox="1"/>
                <p:nvPr/>
              </p:nvSpPr>
              <p:spPr>
                <a:xfrm>
                  <a:off x="6012000" y="2981160"/>
                  <a:ext cx="57636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31"/>
                <p:cNvSpPr txBox="1"/>
                <p:nvPr/>
              </p:nvSpPr>
              <p:spPr>
                <a:xfrm>
                  <a:off x="6731280" y="1269720"/>
                  <a:ext cx="2966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32"/>
                <p:cNvSpPr txBox="1"/>
                <p:nvPr/>
              </p:nvSpPr>
              <p:spPr>
                <a:xfrm>
                  <a:off x="8460000" y="3646440"/>
                  <a:ext cx="262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AutoShape 33"/>
            <p:cNvSpPr/>
            <p:nvPr/>
          </p:nvSpPr>
          <p:spPr>
            <a:xfrm>
              <a:off x="7899480" y="1730160"/>
              <a:ext cx="157320" cy="139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4"/>
                  </a:moveTo>
                  <a:lnTo>
                    <a:pt x="3838" y="3864"/>
                  </a:lnTo>
                  <a:lnTo>
                    <a:pt x="5051" y="0"/>
                  </a:lnTo>
                  <a:lnTo>
                    <a:pt x="6162" y="3864"/>
                  </a:lnTo>
                  <a:lnTo>
                    <a:pt x="10000" y="3864"/>
                  </a:lnTo>
                  <a:lnTo>
                    <a:pt x="6869" y="6136"/>
                  </a:lnTo>
                  <a:lnTo>
                    <a:pt x="8081" y="10000"/>
                  </a:lnTo>
                  <a:lnTo>
                    <a:pt x="5051" y="7614"/>
                  </a:lnTo>
                  <a:lnTo>
                    <a:pt x="1919" y="10000"/>
                  </a:lnTo>
                  <a:lnTo>
                    <a:pt x="3131" y="6136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AutoShape 34"/>
            <p:cNvSpPr/>
            <p:nvPr/>
          </p:nvSpPr>
          <p:spPr>
            <a:xfrm>
              <a:off x="8288640" y="3848040"/>
              <a:ext cx="156960" cy="139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4"/>
                  </a:moveTo>
                  <a:lnTo>
                    <a:pt x="3838" y="3864"/>
                  </a:lnTo>
                  <a:lnTo>
                    <a:pt x="5051" y="0"/>
                  </a:lnTo>
                  <a:lnTo>
                    <a:pt x="6162" y="3864"/>
                  </a:lnTo>
                  <a:lnTo>
                    <a:pt x="10000" y="3864"/>
                  </a:lnTo>
                  <a:lnTo>
                    <a:pt x="6869" y="6136"/>
                  </a:lnTo>
                  <a:lnTo>
                    <a:pt x="8081" y="10000"/>
                  </a:lnTo>
                  <a:lnTo>
                    <a:pt x="5051" y="7614"/>
                  </a:lnTo>
                  <a:lnTo>
                    <a:pt x="1919" y="10000"/>
                  </a:lnTo>
                  <a:lnTo>
                    <a:pt x="3131" y="6136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 flipV="1">
              <a:off x="7942320" y="1341360"/>
              <a:ext cx="648000" cy="490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36"/>
                <p:cNvSpPr txBox="1"/>
                <p:nvPr/>
              </p:nvSpPr>
              <p:spPr>
                <a:xfrm>
                  <a:off x="8215560" y="1557360"/>
                  <a:ext cx="2602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Freeform 37"/>
            <p:cNvSpPr/>
            <p:nvPr/>
          </p:nvSpPr>
          <p:spPr>
            <a:xfrm>
              <a:off x="8126640" y="1712880"/>
              <a:ext cx="34920" cy="245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2" h="155">
                  <a:moveTo>
                    <a:pt x="0" y="0"/>
                  </a:moveTo>
                  <a:cubicBezTo>
                    <a:pt x="3" y="11"/>
                    <a:pt x="16" y="38"/>
                    <a:pt x="19" y="64"/>
                  </a:cubicBezTo>
                  <a:cubicBezTo>
                    <a:pt x="22" y="90"/>
                    <a:pt x="19" y="136"/>
                    <a:pt x="19" y="155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8"/>
                <p:cNvSpPr txBox="1"/>
                <p:nvPr/>
              </p:nvSpPr>
              <p:spPr>
                <a:xfrm>
                  <a:off x="6234480" y="1989000"/>
                  <a:ext cx="3538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9"/>
                <p:cNvSpPr txBox="1"/>
                <p:nvPr/>
              </p:nvSpPr>
              <p:spPr>
                <a:xfrm>
                  <a:off x="7164720" y="3357360"/>
                  <a:ext cx="36972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Object 40"/>
              <p:cNvSpPr txBox="1"/>
              <p:nvPr/>
            </p:nvSpPr>
            <p:spPr>
              <a:xfrm>
                <a:off x="480960" y="5286240"/>
                <a:ext cx="57006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'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Text Box 41"/>
          <p:cNvSpPr/>
          <p:nvPr/>
        </p:nvSpPr>
        <p:spPr>
          <a:xfrm>
            <a:off x="642960" y="47149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过程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187280" y="3141720"/>
                <a:ext cx="3384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'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611280" y="2276640"/>
                <a:ext cx="47862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971640" y="4508640"/>
                <a:ext cx="3744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G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468360" y="981000"/>
                <a:ext cx="5519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'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6012000" y="620640"/>
            <a:ext cx="2879640" cy="3384360"/>
            <a:chOff x="6012000" y="620640"/>
            <a:chExt cx="2879640" cy="3384360"/>
          </a:xfrm>
        </p:grpSpPr>
        <p:sp>
          <p:nvSpPr>
            <p:cNvPr id="161" name="Rectangle 10"/>
            <p:cNvSpPr/>
            <p:nvPr/>
          </p:nvSpPr>
          <p:spPr>
            <a:xfrm>
              <a:off x="6012000" y="620640"/>
              <a:ext cx="2879640" cy="33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>
              <a:off x="6444000" y="2349360"/>
              <a:ext cx="360360" cy="3808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6196320" y="1269720"/>
              <a:ext cx="2539800" cy="2535480"/>
            </a:xfrm>
            <a:custGeom>
              <a:avLst/>
              <a:gdLst>
                <a:gd name="textAreaLeft" fmla="*/ 0 w 2539800"/>
                <a:gd name="textAreaRight" fmla="*/ 2540160 w 2539800"/>
                <a:gd name="textAreaTop" fmla="*/ 0 h 2535480"/>
                <a:gd name="textAreaBottom" fmla="*/ 2535840 h 2535480"/>
              </a:gdLst>
              <a:ahLst/>
              <a:rect l="textAreaLeft" t="textAreaTop" r="textAreaRight" b="textAreaBottom"/>
              <a:pathLst>
                <a:path w="1600" h="1597">
                  <a:moveTo>
                    <a:pt x="0" y="189"/>
                  </a:moveTo>
                  <a:cubicBezTo>
                    <a:pt x="53" y="166"/>
                    <a:pt x="189" y="82"/>
                    <a:pt x="320" y="52"/>
                  </a:cubicBezTo>
                  <a:cubicBezTo>
                    <a:pt x="451" y="22"/>
                    <a:pt x="659" y="0"/>
                    <a:pt x="787" y="6"/>
                  </a:cubicBezTo>
                  <a:cubicBezTo>
                    <a:pt x="915" y="12"/>
                    <a:pt x="986" y="37"/>
                    <a:pt x="1088" y="89"/>
                  </a:cubicBezTo>
                  <a:cubicBezTo>
                    <a:pt x="1190" y="141"/>
                    <a:pt x="1317" y="204"/>
                    <a:pt x="1399" y="317"/>
                  </a:cubicBezTo>
                  <a:cubicBezTo>
                    <a:pt x="1481" y="430"/>
                    <a:pt x="1564" y="629"/>
                    <a:pt x="1582" y="765"/>
                  </a:cubicBezTo>
                  <a:cubicBezTo>
                    <a:pt x="1600" y="901"/>
                    <a:pt x="1559" y="992"/>
                    <a:pt x="1509" y="1131"/>
                  </a:cubicBezTo>
                  <a:cubicBezTo>
                    <a:pt x="1459" y="1270"/>
                    <a:pt x="1328" y="1500"/>
                    <a:pt x="1280" y="1597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6577200" y="1412640"/>
              <a:ext cx="1451160" cy="112896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1128960"/>
                <a:gd name="textAreaBottom" fmla="*/ 1129320 h 1128960"/>
              </a:gdLst>
              <a:ahLst/>
              <a:rect l="textAreaLeft" t="textAreaTop" r="textAreaRight" b="textAreaBottom"/>
              <a:pathLst>
                <a:path w="848" h="630">
                  <a:moveTo>
                    <a:pt x="0" y="630"/>
                  </a:moveTo>
                  <a:lnTo>
                    <a:pt x="848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 flipV="1">
              <a:off x="6577200" y="1917360"/>
              <a:ext cx="1954080" cy="6238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>
              <a:off x="7985160" y="1428480"/>
              <a:ext cx="546120" cy="489240"/>
            </a:xfrm>
            <a:prstGeom prst="line">
              <a:avLst/>
            </a:prstGeom>
            <a:ln w="316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Object 16"/>
                <p:cNvSpPr txBox="1"/>
                <p:nvPr/>
              </p:nvSpPr>
              <p:spPr>
                <a:xfrm>
                  <a:off x="6980400" y="1520640"/>
                  <a:ext cx="3272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17"/>
                <p:cNvSpPr txBox="1"/>
                <p:nvPr/>
              </p:nvSpPr>
              <p:spPr>
                <a:xfrm>
                  <a:off x="7164720" y="2296800"/>
                  <a:ext cx="936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18"/>
                <p:cNvSpPr txBox="1"/>
                <p:nvPr/>
              </p:nvSpPr>
              <p:spPr>
                <a:xfrm>
                  <a:off x="7739280" y="1558800"/>
                  <a:ext cx="50328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AutoShape 19"/>
            <p:cNvSpPr/>
            <p:nvPr/>
          </p:nvSpPr>
          <p:spPr>
            <a:xfrm>
              <a:off x="6645600" y="1284120"/>
              <a:ext cx="156960" cy="139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4"/>
                  </a:moveTo>
                  <a:lnTo>
                    <a:pt x="3838" y="3864"/>
                  </a:lnTo>
                  <a:lnTo>
                    <a:pt x="5051" y="0"/>
                  </a:lnTo>
                  <a:lnTo>
                    <a:pt x="6162" y="3864"/>
                  </a:lnTo>
                  <a:lnTo>
                    <a:pt x="10000" y="3864"/>
                  </a:lnTo>
                  <a:lnTo>
                    <a:pt x="6869" y="6136"/>
                  </a:lnTo>
                  <a:lnTo>
                    <a:pt x="8081" y="10000"/>
                  </a:lnTo>
                  <a:lnTo>
                    <a:pt x="5051" y="7614"/>
                  </a:lnTo>
                  <a:lnTo>
                    <a:pt x="1919" y="10000"/>
                  </a:lnTo>
                  <a:lnTo>
                    <a:pt x="3131" y="6136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 flipV="1">
              <a:off x="6577200" y="1341360"/>
              <a:ext cx="154080" cy="120024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6577200" y="2541600"/>
              <a:ext cx="1811520" cy="10317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Object 22"/>
                <p:cNvSpPr txBox="1"/>
                <p:nvPr/>
              </p:nvSpPr>
              <p:spPr>
                <a:xfrm>
                  <a:off x="7739280" y="1054080"/>
                  <a:ext cx="290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Object 23"/>
                <p:cNvSpPr txBox="1"/>
                <p:nvPr/>
              </p:nvSpPr>
              <p:spPr>
                <a:xfrm>
                  <a:off x="6012000" y="2571480"/>
                  <a:ext cx="57636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24"/>
                <p:cNvSpPr txBox="1"/>
                <p:nvPr/>
              </p:nvSpPr>
              <p:spPr>
                <a:xfrm>
                  <a:off x="6731280" y="909360"/>
                  <a:ext cx="2966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25"/>
                <p:cNvSpPr txBox="1"/>
                <p:nvPr/>
              </p:nvSpPr>
              <p:spPr>
                <a:xfrm>
                  <a:off x="8460000" y="3286080"/>
                  <a:ext cx="262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AutoShape 26"/>
            <p:cNvSpPr/>
            <p:nvPr/>
          </p:nvSpPr>
          <p:spPr>
            <a:xfrm>
              <a:off x="7899480" y="1369800"/>
              <a:ext cx="157320" cy="139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4"/>
                  </a:moveTo>
                  <a:lnTo>
                    <a:pt x="3838" y="3864"/>
                  </a:lnTo>
                  <a:lnTo>
                    <a:pt x="5051" y="0"/>
                  </a:lnTo>
                  <a:lnTo>
                    <a:pt x="6162" y="3864"/>
                  </a:lnTo>
                  <a:lnTo>
                    <a:pt x="10000" y="3864"/>
                  </a:lnTo>
                  <a:lnTo>
                    <a:pt x="6869" y="6136"/>
                  </a:lnTo>
                  <a:lnTo>
                    <a:pt x="8081" y="10000"/>
                  </a:lnTo>
                  <a:lnTo>
                    <a:pt x="5051" y="7614"/>
                  </a:lnTo>
                  <a:lnTo>
                    <a:pt x="1919" y="10000"/>
                  </a:lnTo>
                  <a:lnTo>
                    <a:pt x="3131" y="6136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AutoShape 27"/>
            <p:cNvSpPr/>
            <p:nvPr/>
          </p:nvSpPr>
          <p:spPr>
            <a:xfrm>
              <a:off x="8288640" y="3487680"/>
              <a:ext cx="156960" cy="139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4"/>
                  </a:moveTo>
                  <a:lnTo>
                    <a:pt x="3838" y="3864"/>
                  </a:lnTo>
                  <a:lnTo>
                    <a:pt x="5051" y="0"/>
                  </a:lnTo>
                  <a:lnTo>
                    <a:pt x="6162" y="3864"/>
                  </a:lnTo>
                  <a:lnTo>
                    <a:pt x="10000" y="3864"/>
                  </a:lnTo>
                  <a:lnTo>
                    <a:pt x="6869" y="6136"/>
                  </a:lnTo>
                  <a:lnTo>
                    <a:pt x="8081" y="10000"/>
                  </a:lnTo>
                  <a:lnTo>
                    <a:pt x="5051" y="7614"/>
                  </a:lnTo>
                  <a:lnTo>
                    <a:pt x="1919" y="10000"/>
                  </a:lnTo>
                  <a:lnTo>
                    <a:pt x="3131" y="6136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28"/>
            <p:cNvSpPr/>
            <p:nvPr/>
          </p:nvSpPr>
          <p:spPr>
            <a:xfrm flipV="1">
              <a:off x="7942320" y="981000"/>
              <a:ext cx="648000" cy="490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9"/>
                <p:cNvSpPr txBox="1"/>
                <p:nvPr/>
              </p:nvSpPr>
              <p:spPr>
                <a:xfrm>
                  <a:off x="8215560" y="1197000"/>
                  <a:ext cx="2602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Freeform 30"/>
            <p:cNvSpPr/>
            <p:nvPr/>
          </p:nvSpPr>
          <p:spPr>
            <a:xfrm>
              <a:off x="8126640" y="1352520"/>
              <a:ext cx="34920" cy="245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2" h="155">
                  <a:moveTo>
                    <a:pt x="0" y="0"/>
                  </a:moveTo>
                  <a:cubicBezTo>
                    <a:pt x="3" y="11"/>
                    <a:pt x="16" y="38"/>
                    <a:pt x="19" y="64"/>
                  </a:cubicBezTo>
                  <a:cubicBezTo>
                    <a:pt x="22" y="90"/>
                    <a:pt x="19" y="136"/>
                    <a:pt x="19" y="155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Object 31"/>
                <p:cNvSpPr txBox="1"/>
                <p:nvPr/>
              </p:nvSpPr>
              <p:spPr>
                <a:xfrm>
                  <a:off x="6234480" y="1628640"/>
                  <a:ext cx="3538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Object 32"/>
                <p:cNvSpPr txBox="1"/>
                <p:nvPr/>
              </p:nvSpPr>
              <p:spPr>
                <a:xfrm>
                  <a:off x="7164720" y="2997000"/>
                  <a:ext cx="36972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33"/>
          <p:cNvSpPr/>
          <p:nvPr/>
        </p:nvSpPr>
        <p:spPr>
          <a:xfrm>
            <a:off x="5219640" y="414972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有引力作功只与物体始末位置有关，与物体所经路程无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1143000" y="142920"/>
            <a:ext cx="39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有引力作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60"/>
          <p:cNvGrpSpPr/>
          <p:nvPr/>
        </p:nvGrpSpPr>
        <p:grpSpPr>
          <a:xfrm>
            <a:off x="886320" y="969840"/>
            <a:ext cx="3232440" cy="501480"/>
            <a:chOff x="886320" y="969840"/>
            <a:chExt cx="3232440" cy="501480"/>
          </a:xfrm>
        </p:grpSpPr>
        <p:grpSp>
          <p:nvGrpSpPr>
            <p:cNvPr id="187" name="Group 61"/>
            <p:cNvGrpSpPr/>
            <p:nvPr/>
          </p:nvGrpSpPr>
          <p:grpSpPr>
            <a:xfrm>
              <a:off x="886320" y="969840"/>
              <a:ext cx="1383840" cy="480960"/>
              <a:chOff x="886320" y="969840"/>
              <a:chExt cx="1383840" cy="480960"/>
            </a:xfrm>
          </p:grpSpPr>
          <p:sp>
            <p:nvSpPr>
              <p:cNvPr id="188" name="Text Box 62"/>
              <p:cNvSpPr/>
              <p:nvPr/>
            </p:nvSpPr>
            <p:spPr>
              <a:xfrm>
                <a:off x="886320" y="9698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力函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9" name="Object 14"/>
                  <p:cNvSpPr txBox="1"/>
                  <p:nvPr/>
                </p:nvSpPr>
                <p:spPr>
                  <a:xfrm>
                    <a:off x="1713960" y="1000080"/>
                    <a:ext cx="55620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90" name="Group 64"/>
            <p:cNvGrpSpPr/>
            <p:nvPr/>
          </p:nvGrpSpPr>
          <p:grpSpPr>
            <a:xfrm>
              <a:off x="2814120" y="1000080"/>
              <a:ext cx="1304640" cy="471240"/>
              <a:chOff x="2814120" y="1000080"/>
              <a:chExt cx="1304640" cy="471240"/>
            </a:xfrm>
          </p:grpSpPr>
          <p:sp>
            <p:nvSpPr>
              <p:cNvPr id="191" name="Text Box 65"/>
              <p:cNvSpPr/>
              <p:nvPr/>
            </p:nvSpPr>
            <p:spPr>
              <a:xfrm>
                <a:off x="2814120" y="10000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元位移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2" name="Object 13"/>
                  <p:cNvSpPr txBox="1"/>
                  <p:nvPr/>
                </p:nvSpPr>
                <p:spPr>
                  <a:xfrm>
                    <a:off x="3642120" y="1071360"/>
                    <a:ext cx="47664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571680" y="1571760"/>
                <a:ext cx="2030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2774880" y="1557360"/>
                <a:ext cx="25416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6218280" y="4707000"/>
                <a:ext cx="2666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393840" y="4851360"/>
                <a:ext cx="5365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g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7" name="Group 72"/>
          <p:cNvGrpSpPr/>
          <p:nvPr/>
        </p:nvGrpSpPr>
        <p:grpSpPr>
          <a:xfrm>
            <a:off x="4648320" y="571680"/>
            <a:ext cx="4495680" cy="4190760"/>
            <a:chOff x="4648320" y="571680"/>
            <a:chExt cx="4495680" cy="4190760"/>
          </a:xfrm>
        </p:grpSpPr>
        <p:sp>
          <p:nvSpPr>
            <p:cNvPr id="198" name="Rectangle 73"/>
            <p:cNvSpPr/>
            <p:nvPr/>
          </p:nvSpPr>
          <p:spPr>
            <a:xfrm>
              <a:off x="4648320" y="571680"/>
              <a:ext cx="4495680" cy="41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4880160" y="4378320"/>
              <a:ext cx="395928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V="1">
              <a:off x="6199200" y="791640"/>
              <a:ext cx="0" cy="35859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reeform 76"/>
          <p:cNvSpPr/>
          <p:nvPr/>
        </p:nvSpPr>
        <p:spPr>
          <a:xfrm>
            <a:off x="4876920" y="1587600"/>
            <a:ext cx="3930480" cy="1995480"/>
          </a:xfrm>
          <a:custGeom>
            <a:avLst/>
            <a:gdLst>
              <a:gd name="textAreaLeft" fmla="*/ 0 w 3930480"/>
              <a:gd name="textAreaRight" fmla="*/ 3930840 w 393048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3216" h="1128">
                <a:moveTo>
                  <a:pt x="0" y="474"/>
                </a:moveTo>
                <a:cubicBezTo>
                  <a:pt x="55" y="628"/>
                  <a:pt x="140" y="774"/>
                  <a:pt x="252" y="774"/>
                </a:cubicBezTo>
                <a:cubicBezTo>
                  <a:pt x="364" y="774"/>
                  <a:pt x="523" y="540"/>
                  <a:pt x="673" y="474"/>
                </a:cubicBezTo>
                <a:cubicBezTo>
                  <a:pt x="823" y="408"/>
                  <a:pt x="995" y="444"/>
                  <a:pt x="1153" y="378"/>
                </a:cubicBezTo>
                <a:cubicBezTo>
                  <a:pt x="1311" y="312"/>
                  <a:pt x="1455" y="136"/>
                  <a:pt x="1621" y="78"/>
                </a:cubicBezTo>
                <a:cubicBezTo>
                  <a:pt x="1787" y="20"/>
                  <a:pt x="2001" y="0"/>
                  <a:pt x="2149" y="30"/>
                </a:cubicBezTo>
                <a:cubicBezTo>
                  <a:pt x="2297" y="60"/>
                  <a:pt x="2413" y="94"/>
                  <a:pt x="2509" y="258"/>
                </a:cubicBezTo>
                <a:cubicBezTo>
                  <a:pt x="2605" y="422"/>
                  <a:pt x="2606" y="900"/>
                  <a:pt x="2724" y="1014"/>
                </a:cubicBezTo>
                <a:cubicBezTo>
                  <a:pt x="2842" y="1128"/>
                  <a:pt x="3052" y="1039"/>
                  <a:pt x="3216" y="9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Oval 77"/>
          <p:cNvSpPr/>
          <p:nvPr/>
        </p:nvSpPr>
        <p:spPr>
          <a:xfrm>
            <a:off x="7315200" y="148608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78"/>
          <p:cNvGrpSpPr/>
          <p:nvPr/>
        </p:nvGrpSpPr>
        <p:grpSpPr>
          <a:xfrm>
            <a:off x="5320440" y="2014560"/>
            <a:ext cx="3197880" cy="1884600"/>
            <a:chOff x="5320440" y="2014560"/>
            <a:chExt cx="3197880" cy="1884600"/>
          </a:xfrm>
        </p:grpSpPr>
        <p:sp>
          <p:nvSpPr>
            <p:cNvPr id="204" name="Text Box 79"/>
            <p:cNvSpPr/>
            <p:nvPr/>
          </p:nvSpPr>
          <p:spPr>
            <a:xfrm>
              <a:off x="5320440" y="20145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Text Box 80"/>
            <p:cNvSpPr/>
            <p:nvPr/>
          </p:nvSpPr>
          <p:spPr>
            <a:xfrm>
              <a:off x="8168400" y="3492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6" name="Group 81"/>
            <p:cNvGrpSpPr/>
            <p:nvPr/>
          </p:nvGrpSpPr>
          <p:grpSpPr>
            <a:xfrm>
              <a:off x="5410080" y="2400120"/>
              <a:ext cx="3072600" cy="1499040"/>
              <a:chOff x="5410080" y="2400120"/>
              <a:chExt cx="3072600" cy="1499040"/>
            </a:xfrm>
          </p:grpSpPr>
          <p:grpSp>
            <p:nvGrpSpPr>
              <p:cNvPr id="207" name="Group 82"/>
              <p:cNvGrpSpPr/>
              <p:nvPr/>
            </p:nvGrpSpPr>
            <p:grpSpPr>
              <a:xfrm>
                <a:off x="5485680" y="2462040"/>
                <a:ext cx="2940840" cy="1437120"/>
                <a:chOff x="5485680" y="2462040"/>
                <a:chExt cx="2940840" cy="1437120"/>
              </a:xfrm>
            </p:grpSpPr>
            <p:grpSp>
              <p:nvGrpSpPr>
                <p:cNvPr id="208" name="Group 83"/>
                <p:cNvGrpSpPr/>
                <p:nvPr/>
              </p:nvGrpSpPr>
              <p:grpSpPr>
                <a:xfrm>
                  <a:off x="5743800" y="3319560"/>
                  <a:ext cx="2682720" cy="579600"/>
                  <a:chOff x="5743800" y="3319560"/>
                  <a:chExt cx="2682720" cy="579600"/>
                </a:xfrm>
              </p:grpSpPr>
              <p:sp>
                <p:nvSpPr>
                  <p:cNvPr id="209" name="Line 84"/>
                  <p:cNvSpPr/>
                  <p:nvPr/>
                </p:nvSpPr>
                <p:spPr>
                  <a:xfrm>
                    <a:off x="6199560" y="3502080"/>
                    <a:ext cx="2226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0" name="Text Box 85"/>
                  <p:cNvSpPr/>
                  <p:nvPr/>
                </p:nvSpPr>
                <p:spPr>
                  <a:xfrm>
                    <a:off x="5743800" y="3319560"/>
                    <a:ext cx="4413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r>
                      <a:rPr b="0" i="1" lang="en-US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1" name="Group 86"/>
                <p:cNvGrpSpPr/>
                <p:nvPr/>
              </p:nvGrpSpPr>
              <p:grpSpPr>
                <a:xfrm>
                  <a:off x="5485680" y="2462040"/>
                  <a:ext cx="699480" cy="579600"/>
                  <a:chOff x="5485680" y="2462040"/>
                  <a:chExt cx="699480" cy="579600"/>
                </a:xfrm>
              </p:grpSpPr>
              <p:sp>
                <p:nvSpPr>
                  <p:cNvPr id="212" name="Line 87"/>
                  <p:cNvSpPr/>
                  <p:nvPr/>
                </p:nvSpPr>
                <p:spPr>
                  <a:xfrm>
                    <a:off x="5485680" y="2595600"/>
                    <a:ext cx="695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3" name="Text Box 88"/>
                  <p:cNvSpPr/>
                  <p:nvPr/>
                </p:nvSpPr>
                <p:spPr>
                  <a:xfrm>
                    <a:off x="5743800" y="2462040"/>
                    <a:ext cx="4413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r>
                      <a:rPr b="0" i="1" lang="en-US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14" name="Oval 89"/>
              <p:cNvSpPr/>
              <p:nvPr/>
            </p:nvSpPr>
            <p:spPr>
              <a:xfrm>
                <a:off x="5410080" y="2400120"/>
                <a:ext cx="30420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Oval 90"/>
              <p:cNvSpPr/>
              <p:nvPr/>
            </p:nvSpPr>
            <p:spPr>
              <a:xfrm>
                <a:off x="8178120" y="332748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6" name="Oval 91"/>
          <p:cNvSpPr/>
          <p:nvPr/>
        </p:nvSpPr>
        <p:spPr>
          <a:xfrm>
            <a:off x="7924680" y="232416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Group 92"/>
          <p:cNvGrpSpPr/>
          <p:nvPr/>
        </p:nvGrpSpPr>
        <p:grpSpPr>
          <a:xfrm>
            <a:off x="7532640" y="1681200"/>
            <a:ext cx="728640" cy="814320"/>
            <a:chOff x="7532640" y="1681200"/>
            <a:chExt cx="728640" cy="814320"/>
          </a:xfrm>
        </p:grpSpPr>
        <p:sp>
          <p:nvSpPr>
            <p:cNvPr id="218" name="Freeform 93"/>
            <p:cNvSpPr/>
            <p:nvPr/>
          </p:nvSpPr>
          <p:spPr>
            <a:xfrm>
              <a:off x="7532640" y="1681200"/>
              <a:ext cx="588960" cy="8143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491" h="540">
                  <a:moveTo>
                    <a:pt x="0" y="0"/>
                  </a:moveTo>
                  <a:lnTo>
                    <a:pt x="491" y="540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12"/>
                <p:cNvSpPr txBox="1"/>
                <p:nvPr/>
              </p:nvSpPr>
              <p:spPr>
                <a:xfrm>
                  <a:off x="7854840" y="1809720"/>
                  <a:ext cx="4064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0" name="Group 95"/>
          <p:cNvGrpSpPr/>
          <p:nvPr/>
        </p:nvGrpSpPr>
        <p:grpSpPr>
          <a:xfrm>
            <a:off x="6172200" y="1714680"/>
            <a:ext cx="1828800" cy="2666880"/>
            <a:chOff x="6172200" y="1714680"/>
            <a:chExt cx="1828800" cy="2666880"/>
          </a:xfrm>
        </p:grpSpPr>
        <p:grpSp>
          <p:nvGrpSpPr>
            <p:cNvPr id="221" name="Group 96"/>
            <p:cNvGrpSpPr/>
            <p:nvPr/>
          </p:nvGrpSpPr>
          <p:grpSpPr>
            <a:xfrm>
              <a:off x="6172200" y="1714680"/>
              <a:ext cx="1219320" cy="2666880"/>
              <a:chOff x="6172200" y="1714680"/>
              <a:chExt cx="1219320" cy="2666880"/>
            </a:xfrm>
          </p:grpSpPr>
          <p:sp>
            <p:nvSpPr>
              <p:cNvPr id="222" name="Line 97"/>
              <p:cNvSpPr/>
              <p:nvPr/>
            </p:nvSpPr>
            <p:spPr>
              <a:xfrm flipV="1">
                <a:off x="6172200" y="1714680"/>
                <a:ext cx="1219320" cy="26668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Object 11"/>
                  <p:cNvSpPr txBox="1"/>
                  <p:nvPr/>
                </p:nvSpPr>
                <p:spPr>
                  <a:xfrm>
                    <a:off x="6629400" y="2476440"/>
                    <a:ext cx="293760" cy="38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4" name="Group 99"/>
            <p:cNvGrpSpPr/>
            <p:nvPr/>
          </p:nvGrpSpPr>
          <p:grpSpPr>
            <a:xfrm>
              <a:off x="6248520" y="2552400"/>
              <a:ext cx="1752480" cy="1752120"/>
              <a:chOff x="6248520" y="2552400"/>
              <a:chExt cx="1752480" cy="1752120"/>
            </a:xfrm>
          </p:grpSpPr>
          <p:sp>
            <p:nvSpPr>
              <p:cNvPr id="225" name="Line 100"/>
              <p:cNvSpPr/>
              <p:nvPr/>
            </p:nvSpPr>
            <p:spPr>
              <a:xfrm flipV="1">
                <a:off x="6248520" y="2552400"/>
                <a:ext cx="1752480" cy="17521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6" name="Object 10"/>
                  <p:cNvSpPr txBox="1"/>
                  <p:nvPr/>
                </p:nvSpPr>
                <p:spPr>
                  <a:xfrm>
                    <a:off x="7520040" y="2918880"/>
                    <a:ext cx="3826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27" name="Group 102"/>
          <p:cNvGrpSpPr/>
          <p:nvPr/>
        </p:nvGrpSpPr>
        <p:grpSpPr>
          <a:xfrm>
            <a:off x="7216920" y="1635120"/>
            <a:ext cx="588960" cy="2339280"/>
            <a:chOff x="7216920" y="1635120"/>
            <a:chExt cx="588960" cy="2339280"/>
          </a:xfrm>
        </p:grpSpPr>
        <p:sp>
          <p:nvSpPr>
            <p:cNvPr id="228" name="Freeform 103"/>
            <p:cNvSpPr/>
            <p:nvPr/>
          </p:nvSpPr>
          <p:spPr>
            <a:xfrm>
              <a:off x="7448400" y="1819080"/>
              <a:ext cx="204840" cy="2430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68" h="138">
                  <a:moveTo>
                    <a:pt x="168" y="0"/>
                  </a:moveTo>
                  <a:cubicBezTo>
                    <a:pt x="152" y="51"/>
                    <a:pt x="136" y="102"/>
                    <a:pt x="108" y="120"/>
                  </a:cubicBezTo>
                  <a:cubicBezTo>
                    <a:pt x="80" y="138"/>
                    <a:pt x="40" y="123"/>
                    <a:pt x="0" y="10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104"/>
            <p:cNvSpPr/>
            <p:nvPr/>
          </p:nvSpPr>
          <p:spPr>
            <a:xfrm>
              <a:off x="7448400" y="189036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0" name="Group 105"/>
            <p:cNvGrpSpPr/>
            <p:nvPr/>
          </p:nvGrpSpPr>
          <p:grpSpPr>
            <a:xfrm>
              <a:off x="7216920" y="1635120"/>
              <a:ext cx="425160" cy="2339280"/>
              <a:chOff x="7216920" y="1635120"/>
              <a:chExt cx="425160" cy="2339280"/>
            </a:xfrm>
          </p:grpSpPr>
          <p:sp>
            <p:nvSpPr>
              <p:cNvPr id="231" name="Line 106"/>
              <p:cNvSpPr/>
              <p:nvPr/>
            </p:nvSpPr>
            <p:spPr>
              <a:xfrm>
                <a:off x="7458120" y="1635120"/>
                <a:ext cx="0" cy="198108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2" name="Object 9"/>
                  <p:cNvSpPr txBox="1"/>
                  <p:nvPr/>
                </p:nvSpPr>
                <p:spPr>
                  <a:xfrm>
                    <a:off x="7216920" y="3616200"/>
                    <a:ext cx="425160" cy="35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33" name="Group 108"/>
          <p:cNvGrpSpPr/>
          <p:nvPr/>
        </p:nvGrpSpPr>
        <p:grpSpPr>
          <a:xfrm>
            <a:off x="6986520" y="1676520"/>
            <a:ext cx="1066680" cy="785520"/>
            <a:chOff x="6986520" y="1676520"/>
            <a:chExt cx="1066680" cy="785520"/>
          </a:xfrm>
        </p:grpSpPr>
        <p:sp>
          <p:nvSpPr>
            <p:cNvPr id="234" name="Line 109"/>
            <p:cNvSpPr/>
            <p:nvPr/>
          </p:nvSpPr>
          <p:spPr>
            <a:xfrm>
              <a:off x="7519680" y="246204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8"/>
                <p:cNvSpPr txBox="1"/>
                <p:nvPr/>
              </p:nvSpPr>
              <p:spPr>
                <a:xfrm>
                  <a:off x="6986520" y="1950840"/>
                  <a:ext cx="5331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Line 111"/>
            <p:cNvSpPr/>
            <p:nvPr/>
          </p:nvSpPr>
          <p:spPr>
            <a:xfrm>
              <a:off x="7510320" y="16765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Object 6"/>
              <p:cNvSpPr txBox="1"/>
              <p:nvPr/>
            </p:nvSpPr>
            <p:spPr>
              <a:xfrm>
                <a:off x="1000080" y="3643200"/>
                <a:ext cx="1879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g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928800" y="2643120"/>
                <a:ext cx="3527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nary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y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Text Box 29"/>
          <p:cNvSpPr/>
          <p:nvPr/>
        </p:nvSpPr>
        <p:spPr>
          <a:xfrm>
            <a:off x="1285920" y="214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力做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187280" y="18900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保守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组合 42"/>
          <p:cNvGrpSpPr/>
          <p:nvPr/>
        </p:nvGrpSpPr>
        <p:grpSpPr>
          <a:xfrm>
            <a:off x="976320" y="836640"/>
            <a:ext cx="7556400" cy="1274400"/>
            <a:chOff x="976320" y="836640"/>
            <a:chExt cx="7556400" cy="1274400"/>
          </a:xfrm>
        </p:grpSpPr>
        <p:sp>
          <p:nvSpPr>
            <p:cNvPr id="242" name="Rectangle 2053"/>
            <p:cNvSpPr/>
            <p:nvPr/>
          </p:nvSpPr>
          <p:spPr>
            <a:xfrm>
              <a:off x="1834920" y="908280"/>
              <a:ext cx="6697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487e"/>
                  </a:solidFill>
                  <a:latin typeface="Verdana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如果力所做的功</a:t>
              </a: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只与物体的始末位置有关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而与路径无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这样的力称为</a:t>
              </a: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保守力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矩形 41"/>
            <p:cNvSpPr/>
            <p:nvPr/>
          </p:nvSpPr>
          <p:spPr>
            <a:xfrm>
              <a:off x="976320" y="836640"/>
              <a:ext cx="6073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定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组合 47"/>
          <p:cNvGrpSpPr/>
          <p:nvPr/>
        </p:nvGrpSpPr>
        <p:grpSpPr>
          <a:xfrm>
            <a:off x="428760" y="4572000"/>
            <a:ext cx="8424720" cy="721800"/>
            <a:chOff x="428760" y="4572000"/>
            <a:chExt cx="8424720" cy="721800"/>
          </a:xfrm>
        </p:grpSpPr>
        <p:sp>
          <p:nvSpPr>
            <p:cNvPr id="245" name="Text Box 2055"/>
            <p:cNvSpPr/>
            <p:nvPr/>
          </p:nvSpPr>
          <p:spPr>
            <a:xfrm>
              <a:off x="2732760" y="4645440"/>
              <a:ext cx="6120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重力、万有引力、静电力、弹性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矩形 46"/>
            <p:cNvSpPr/>
            <p:nvPr/>
          </p:nvSpPr>
          <p:spPr>
            <a:xfrm>
              <a:off x="428760" y="4572000"/>
              <a:ext cx="2255400" cy="64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常见保守力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: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Text Box 13"/>
          <p:cNvSpPr/>
          <p:nvPr/>
        </p:nvSpPr>
        <p:spPr>
          <a:xfrm>
            <a:off x="1000080" y="52862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非保守力：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力所作的功与路径有关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（例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擦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力、空气阻力等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组合 16"/>
          <p:cNvGrpSpPr/>
          <p:nvPr/>
        </p:nvGrpSpPr>
        <p:grpSpPr>
          <a:xfrm>
            <a:off x="1500120" y="2214720"/>
            <a:ext cx="6286680" cy="2511360"/>
            <a:chOff x="1500120" y="2214720"/>
            <a:chExt cx="6286680" cy="2511360"/>
          </a:xfrm>
        </p:grpSpPr>
        <p:sp>
          <p:nvSpPr>
            <p:cNvPr id="249" name="Rectangle 23"/>
            <p:cNvSpPr/>
            <p:nvPr/>
          </p:nvSpPr>
          <p:spPr>
            <a:xfrm>
              <a:off x="1714320" y="221472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重力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24"/>
            <p:cNvSpPr/>
            <p:nvPr/>
          </p:nvSpPr>
          <p:spPr>
            <a:xfrm>
              <a:off x="1642680" y="392940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万有引力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AutoShape 35"/>
            <p:cNvSpPr/>
            <p:nvPr/>
          </p:nvSpPr>
          <p:spPr>
            <a:xfrm>
              <a:off x="1500120" y="2428920"/>
              <a:ext cx="215640" cy="17715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1040 h 1771560"/>
                <a:gd name="textAreaBottom" fmla="*/ 1730520 h 177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05"/>
                    <a:pt x="10800" y="1610"/>
                  </a:cubicBezTo>
                  <a:lnTo>
                    <a:pt x="10800" y="9190"/>
                  </a:lnTo>
                  <a:cubicBezTo>
                    <a:pt x="10800" y="9995"/>
                    <a:pt x="5400" y="10800"/>
                    <a:pt x="0" y="10800"/>
                  </a:cubicBezTo>
                  <a:cubicBezTo>
                    <a:pt x="5400" y="10800"/>
                    <a:pt x="10800" y="11605"/>
                    <a:pt x="10800" y="12410"/>
                  </a:cubicBezTo>
                  <a:lnTo>
                    <a:pt x="10800" y="19990"/>
                  </a:lnTo>
                  <a:cubicBezTo>
                    <a:pt x="10800" y="2079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45"/>
                <p:cNvSpPr txBox="1"/>
                <p:nvPr/>
              </p:nvSpPr>
              <p:spPr>
                <a:xfrm>
                  <a:off x="3429000" y="2857680"/>
                  <a:ext cx="328608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Rectangle 46"/>
            <p:cNvSpPr/>
            <p:nvPr/>
          </p:nvSpPr>
          <p:spPr>
            <a:xfrm>
              <a:off x="1714320" y="30006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弹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47"/>
                <p:cNvSpPr txBox="1"/>
                <p:nvPr/>
              </p:nvSpPr>
              <p:spPr>
                <a:xfrm>
                  <a:off x="4000320" y="3714840"/>
                  <a:ext cx="378648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G</m:t>
                          </m:r>
                          <m:f>
                            <m:num>
                              <m:r>
                                <m:t xml:space="preserve">m</m:t>
                              </m:r>
                              <m:r>
                                <m:t xml:space="preserve">'</m:t>
                              </m:r>
                              <m:r>
                                <m:t xml:space="preserve">m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G</m:t>
                          </m:r>
                          <m:f>
                            <m:num>
                              <m:r>
                                <m:t xml:space="preserve">m</m:t>
                              </m:r>
                              <m:r>
                                <m:t xml:space="preserve">'</m:t>
                              </m:r>
                              <m:r>
                                <m:t xml:space="preserve">m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Object 52"/>
                <p:cNvSpPr txBox="1"/>
                <p:nvPr/>
              </p:nvSpPr>
              <p:spPr>
                <a:xfrm>
                  <a:off x="3429000" y="2214720"/>
                  <a:ext cx="3286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gh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g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071720" y="1000080"/>
                <a:ext cx="4105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5"/>
          <p:cNvGrpSpPr/>
          <p:nvPr/>
        </p:nvGrpSpPr>
        <p:grpSpPr>
          <a:xfrm>
            <a:off x="6400800" y="990720"/>
            <a:ext cx="2361960" cy="2361960"/>
            <a:chOff x="6400800" y="990720"/>
            <a:chExt cx="2361960" cy="2361960"/>
          </a:xfrm>
        </p:grpSpPr>
        <p:sp>
          <p:nvSpPr>
            <p:cNvPr id="258" name="Rectangle 6"/>
            <p:cNvSpPr/>
            <p:nvPr/>
          </p:nvSpPr>
          <p:spPr>
            <a:xfrm>
              <a:off x="6400800" y="990720"/>
              <a:ext cx="236196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7"/>
            <p:cNvSpPr/>
            <p:nvPr/>
          </p:nvSpPr>
          <p:spPr>
            <a:xfrm>
              <a:off x="6769080" y="1517400"/>
              <a:ext cx="1827000" cy="129204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292040"/>
                <a:gd name="textAreaBottom" fmla="*/ 1292400 h 1292040"/>
              </a:gdLst>
              <a:ahLst/>
              <a:rect l="textAreaLeft" t="textAreaTop" r="textAreaRight" b="textAreaBottom"/>
              <a:pathLst>
                <a:path w="1344" h="968">
                  <a:moveTo>
                    <a:pt x="0" y="56"/>
                  </a:moveTo>
                  <a:cubicBezTo>
                    <a:pt x="152" y="28"/>
                    <a:pt x="304" y="0"/>
                    <a:pt x="432" y="8"/>
                  </a:cubicBezTo>
                  <a:cubicBezTo>
                    <a:pt x="560" y="16"/>
                    <a:pt x="656" y="32"/>
                    <a:pt x="768" y="104"/>
                  </a:cubicBezTo>
                  <a:cubicBezTo>
                    <a:pt x="880" y="176"/>
                    <a:pt x="1008" y="296"/>
                    <a:pt x="1104" y="440"/>
                  </a:cubicBezTo>
                  <a:cubicBezTo>
                    <a:pt x="1200" y="584"/>
                    <a:pt x="1304" y="880"/>
                    <a:pt x="1344" y="96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>
              <a:off x="6769080" y="1591920"/>
              <a:ext cx="1827000" cy="121752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1344" h="912">
                  <a:moveTo>
                    <a:pt x="0" y="0"/>
                  </a:moveTo>
                  <a:cubicBezTo>
                    <a:pt x="124" y="40"/>
                    <a:pt x="248" y="80"/>
                    <a:pt x="336" y="144"/>
                  </a:cubicBezTo>
                  <a:cubicBezTo>
                    <a:pt x="424" y="208"/>
                    <a:pt x="488" y="304"/>
                    <a:pt x="528" y="384"/>
                  </a:cubicBezTo>
                  <a:cubicBezTo>
                    <a:pt x="568" y="464"/>
                    <a:pt x="536" y="552"/>
                    <a:pt x="576" y="624"/>
                  </a:cubicBezTo>
                  <a:cubicBezTo>
                    <a:pt x="616" y="696"/>
                    <a:pt x="640" y="768"/>
                    <a:pt x="768" y="816"/>
                  </a:cubicBezTo>
                  <a:cubicBezTo>
                    <a:pt x="896" y="864"/>
                    <a:pt x="1248" y="896"/>
                    <a:pt x="1344" y="912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9"/>
                <p:cNvSpPr txBox="1"/>
                <p:nvPr/>
              </p:nvSpPr>
              <p:spPr>
                <a:xfrm>
                  <a:off x="6476760" y="1164960"/>
                  <a:ext cx="309600" cy="38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0"/>
                <p:cNvSpPr txBox="1"/>
                <p:nvPr/>
              </p:nvSpPr>
              <p:spPr>
                <a:xfrm>
                  <a:off x="8377200" y="2881080"/>
                  <a:ext cx="309600" cy="38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11"/>
                <p:cNvSpPr txBox="1"/>
                <p:nvPr/>
              </p:nvSpPr>
              <p:spPr>
                <a:xfrm>
                  <a:off x="8157960" y="1603080"/>
                  <a:ext cx="30960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9"/>
                <p:cNvSpPr txBox="1"/>
                <p:nvPr/>
              </p:nvSpPr>
              <p:spPr>
                <a:xfrm>
                  <a:off x="7207200" y="2284200"/>
                  <a:ext cx="345960" cy="38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Line 13"/>
            <p:cNvSpPr/>
            <p:nvPr/>
          </p:nvSpPr>
          <p:spPr>
            <a:xfrm>
              <a:off x="7394400" y="1954080"/>
              <a:ext cx="73080" cy="85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8153280" y="1981080"/>
              <a:ext cx="152280" cy="151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17"/>
              <p:cNvSpPr txBox="1"/>
              <p:nvPr/>
            </p:nvSpPr>
            <p:spPr>
              <a:xfrm>
                <a:off x="428760" y="2214720"/>
                <a:ext cx="58323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1571760" y="3429000"/>
                <a:ext cx="53164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{</m:t>
                            </m:r>
                            <m:r>
                              <m:t xml:space="preserve">F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  <m:e/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Text Box 22"/>
          <p:cNvSpPr/>
          <p:nvPr/>
        </p:nvSpPr>
        <p:spPr>
          <a:xfrm>
            <a:off x="468360" y="18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保守力的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2000160" y="4357800"/>
                <a:ext cx="30481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15"/>
          <p:cNvSpPr/>
          <p:nvPr/>
        </p:nvSpPr>
        <p:spPr>
          <a:xfrm>
            <a:off x="1071720" y="5429160"/>
            <a:ext cx="56880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质点沿任意闭合路径运动一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保守力 对它所做的功为零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71"/>
          <p:cNvGrpSpPr/>
          <p:nvPr/>
        </p:nvGrpSpPr>
        <p:grpSpPr>
          <a:xfrm>
            <a:off x="4859280" y="3090960"/>
            <a:ext cx="3886200" cy="3552840"/>
            <a:chOff x="4859280" y="3090960"/>
            <a:chExt cx="3886200" cy="3552840"/>
          </a:xfrm>
        </p:grpSpPr>
        <p:grpSp>
          <p:nvGrpSpPr>
            <p:cNvPr id="273" name="Group 68"/>
            <p:cNvGrpSpPr/>
            <p:nvPr/>
          </p:nvGrpSpPr>
          <p:grpSpPr>
            <a:xfrm>
              <a:off x="4935600" y="3225960"/>
              <a:ext cx="3090960" cy="1473120"/>
              <a:chOff x="4935600" y="3225960"/>
              <a:chExt cx="3090960" cy="1473120"/>
            </a:xfrm>
          </p:grpSpPr>
          <p:sp>
            <p:nvSpPr>
              <p:cNvPr id="274" name="Rectangle 57"/>
              <p:cNvSpPr/>
              <p:nvPr/>
            </p:nvSpPr>
            <p:spPr>
              <a:xfrm>
                <a:off x="4935600" y="322596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Verdana"/>
                  </a:rPr>
                  <a:t>引力势能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5" name="Object 58"/>
                  <p:cNvSpPr txBox="1"/>
                  <p:nvPr/>
                </p:nvSpPr>
                <p:spPr>
                  <a:xfrm>
                    <a:off x="5794200" y="3729240"/>
                    <a:ext cx="2232360" cy="96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6" name="Rectangle 59"/>
            <p:cNvSpPr/>
            <p:nvPr/>
          </p:nvSpPr>
          <p:spPr>
            <a:xfrm>
              <a:off x="4859280" y="3090960"/>
              <a:ext cx="3886200" cy="35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" name="Group 70"/>
          <p:cNvGrpSpPr/>
          <p:nvPr/>
        </p:nvGrpSpPr>
        <p:grpSpPr>
          <a:xfrm>
            <a:off x="738360" y="3090960"/>
            <a:ext cx="4047480" cy="3552840"/>
            <a:chOff x="738360" y="3090960"/>
            <a:chExt cx="4047480" cy="3552840"/>
          </a:xfrm>
        </p:grpSpPr>
        <p:grpSp>
          <p:nvGrpSpPr>
            <p:cNvPr id="278" name="Group 67"/>
            <p:cNvGrpSpPr/>
            <p:nvPr/>
          </p:nvGrpSpPr>
          <p:grpSpPr>
            <a:xfrm>
              <a:off x="754200" y="3171960"/>
              <a:ext cx="4031640" cy="1659960"/>
              <a:chOff x="754200" y="3171960"/>
              <a:chExt cx="4031640" cy="1659960"/>
            </a:xfrm>
          </p:grpSpPr>
          <mc:AlternateContent>
            <mc:Choice xmlns:a14="http://schemas.microsoft.com/office/drawing/2010/main" Requires="a14">
              <p:sp>
                <p:nvSpPr>
                  <p:cNvPr id="279" name="Object 64"/>
                  <p:cNvSpPr txBox="1"/>
                  <p:nvPr/>
                </p:nvSpPr>
                <p:spPr>
                  <a:xfrm>
                    <a:off x="754200" y="3724200"/>
                    <a:ext cx="4031640" cy="110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0" name="Rectangle 65"/>
              <p:cNvSpPr/>
              <p:nvPr/>
            </p:nvSpPr>
            <p:spPr>
              <a:xfrm>
                <a:off x="777600" y="3171960"/>
                <a:ext cx="198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Verdana"/>
                  </a:rPr>
                  <a:t>引力的功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1" name="Rectangle 66"/>
            <p:cNvSpPr/>
            <p:nvPr/>
          </p:nvSpPr>
          <p:spPr>
            <a:xfrm>
              <a:off x="738360" y="3090960"/>
              <a:ext cx="4036680" cy="35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" name="Group 69"/>
          <p:cNvGrpSpPr/>
          <p:nvPr/>
        </p:nvGrpSpPr>
        <p:grpSpPr>
          <a:xfrm>
            <a:off x="5089680" y="4734000"/>
            <a:ext cx="2861640" cy="1512360"/>
            <a:chOff x="5089680" y="4734000"/>
            <a:chExt cx="2861640" cy="1512360"/>
          </a:xfrm>
        </p:grpSpPr>
        <p:sp>
          <p:nvSpPr>
            <p:cNvPr id="283" name="Text Box 54"/>
            <p:cNvSpPr/>
            <p:nvPr/>
          </p:nvSpPr>
          <p:spPr>
            <a:xfrm>
              <a:off x="5089680" y="4734000"/>
              <a:ext cx="27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弹性势能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55"/>
                <p:cNvSpPr txBox="1"/>
                <p:nvPr/>
              </p:nvSpPr>
              <p:spPr>
                <a:xfrm>
                  <a:off x="5864040" y="5175000"/>
                  <a:ext cx="2087280" cy="10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60"/>
          <p:cNvGrpSpPr/>
          <p:nvPr/>
        </p:nvGrpSpPr>
        <p:grpSpPr>
          <a:xfrm>
            <a:off x="754200" y="5059440"/>
            <a:ext cx="3744360" cy="1419120"/>
            <a:chOff x="754200" y="5059440"/>
            <a:chExt cx="3744360" cy="1419120"/>
          </a:xfrm>
        </p:grpSpPr>
        <mc:AlternateContent>
          <mc:Choice xmlns:a14="http://schemas.microsoft.com/office/drawing/2010/main" Requires="a14">
            <p:sp>
              <p:nvSpPr>
                <p:cNvPr id="286" name="Object 61"/>
                <p:cNvSpPr txBox="1"/>
                <p:nvPr/>
              </p:nvSpPr>
              <p:spPr>
                <a:xfrm>
                  <a:off x="917280" y="5564160"/>
                  <a:ext cx="35812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Rectangle 62"/>
            <p:cNvSpPr/>
            <p:nvPr/>
          </p:nvSpPr>
          <p:spPr>
            <a:xfrm>
              <a:off x="754200" y="5059440"/>
              <a:ext cx="189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弹力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Rectangle 2"/>
          <p:cNvSpPr/>
          <p:nvPr/>
        </p:nvSpPr>
        <p:spPr>
          <a:xfrm>
            <a:off x="1214280" y="14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势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571680" y="1785960"/>
            <a:ext cx="8458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定义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只与位置有关的函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系统的势能函数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i="1" lang="en-US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42960" y="785880"/>
            <a:ext cx="79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守力的功可以写成两项之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只与初位置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一项只与末位置有关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71"/>
          <p:cNvGrpSpPr/>
          <p:nvPr/>
        </p:nvGrpSpPr>
        <p:grpSpPr>
          <a:xfrm>
            <a:off x="4859280" y="3090960"/>
            <a:ext cx="3886200" cy="3552840"/>
            <a:chOff x="4859280" y="3090960"/>
            <a:chExt cx="3886200" cy="3552840"/>
          </a:xfrm>
        </p:grpSpPr>
        <p:grpSp>
          <p:nvGrpSpPr>
            <p:cNvPr id="292" name="Group 68"/>
            <p:cNvGrpSpPr/>
            <p:nvPr/>
          </p:nvGrpSpPr>
          <p:grpSpPr>
            <a:xfrm>
              <a:off x="4935600" y="3225960"/>
              <a:ext cx="3090960" cy="1473120"/>
              <a:chOff x="4935600" y="3225960"/>
              <a:chExt cx="3090960" cy="1473120"/>
            </a:xfrm>
          </p:grpSpPr>
          <p:sp>
            <p:nvSpPr>
              <p:cNvPr id="293" name="Rectangle 57"/>
              <p:cNvSpPr/>
              <p:nvPr/>
            </p:nvSpPr>
            <p:spPr>
              <a:xfrm>
                <a:off x="4935600" y="322596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Verdana"/>
                  </a:rPr>
                  <a:t>引力势能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4" name="Object 58"/>
                  <p:cNvSpPr txBox="1"/>
                  <p:nvPr/>
                </p:nvSpPr>
                <p:spPr>
                  <a:xfrm>
                    <a:off x="5794200" y="3729240"/>
                    <a:ext cx="2232360" cy="96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95" name="Rectangle 59"/>
            <p:cNvSpPr/>
            <p:nvPr/>
          </p:nvSpPr>
          <p:spPr>
            <a:xfrm>
              <a:off x="4859280" y="3090960"/>
              <a:ext cx="3886200" cy="35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70"/>
          <p:cNvGrpSpPr/>
          <p:nvPr/>
        </p:nvGrpSpPr>
        <p:grpSpPr>
          <a:xfrm>
            <a:off x="738360" y="3090960"/>
            <a:ext cx="4047480" cy="3552840"/>
            <a:chOff x="738360" y="3090960"/>
            <a:chExt cx="4047480" cy="3552840"/>
          </a:xfrm>
        </p:grpSpPr>
        <p:grpSp>
          <p:nvGrpSpPr>
            <p:cNvPr id="297" name="Group 67"/>
            <p:cNvGrpSpPr/>
            <p:nvPr/>
          </p:nvGrpSpPr>
          <p:grpSpPr>
            <a:xfrm>
              <a:off x="754200" y="3171960"/>
              <a:ext cx="4031640" cy="1659960"/>
              <a:chOff x="754200" y="3171960"/>
              <a:chExt cx="4031640" cy="1659960"/>
            </a:xfrm>
          </p:grpSpPr>
          <mc:AlternateContent>
            <mc:Choice xmlns:a14="http://schemas.microsoft.com/office/drawing/2010/main" Requires="a14">
              <p:sp>
                <p:nvSpPr>
                  <p:cNvPr id="298" name="Object 64"/>
                  <p:cNvSpPr txBox="1"/>
                  <p:nvPr/>
                </p:nvSpPr>
                <p:spPr>
                  <a:xfrm>
                    <a:off x="754200" y="3724200"/>
                    <a:ext cx="4031640" cy="110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9" name="Rectangle 65"/>
              <p:cNvSpPr/>
              <p:nvPr/>
            </p:nvSpPr>
            <p:spPr>
              <a:xfrm>
                <a:off x="777600" y="3171960"/>
                <a:ext cx="198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Verdana"/>
                  </a:rPr>
                  <a:t>引力的功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Rectangle 66"/>
            <p:cNvSpPr/>
            <p:nvPr/>
          </p:nvSpPr>
          <p:spPr>
            <a:xfrm>
              <a:off x="738360" y="3090960"/>
              <a:ext cx="4036680" cy="35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1" name="Group 69"/>
          <p:cNvGrpSpPr/>
          <p:nvPr/>
        </p:nvGrpSpPr>
        <p:grpSpPr>
          <a:xfrm>
            <a:off x="5089680" y="4734000"/>
            <a:ext cx="2861640" cy="1512360"/>
            <a:chOff x="5089680" y="4734000"/>
            <a:chExt cx="2861640" cy="1512360"/>
          </a:xfrm>
        </p:grpSpPr>
        <p:sp>
          <p:nvSpPr>
            <p:cNvPr id="302" name="Text Box 54"/>
            <p:cNvSpPr/>
            <p:nvPr/>
          </p:nvSpPr>
          <p:spPr>
            <a:xfrm>
              <a:off x="5089680" y="4734000"/>
              <a:ext cx="27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弹性势能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55"/>
                <p:cNvSpPr txBox="1"/>
                <p:nvPr/>
              </p:nvSpPr>
              <p:spPr>
                <a:xfrm>
                  <a:off x="5864040" y="5175000"/>
                  <a:ext cx="2087280" cy="10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4" name="Group 60"/>
          <p:cNvGrpSpPr/>
          <p:nvPr/>
        </p:nvGrpSpPr>
        <p:grpSpPr>
          <a:xfrm>
            <a:off x="754200" y="5059440"/>
            <a:ext cx="3744360" cy="1419120"/>
            <a:chOff x="754200" y="5059440"/>
            <a:chExt cx="3744360" cy="1419120"/>
          </a:xfrm>
        </p:grpSpPr>
        <mc:AlternateContent>
          <mc:Choice xmlns:a14="http://schemas.microsoft.com/office/drawing/2010/main" Requires="a14">
            <p:sp>
              <p:nvSpPr>
                <p:cNvPr id="305" name="Object 61"/>
                <p:cNvSpPr txBox="1"/>
                <p:nvPr/>
              </p:nvSpPr>
              <p:spPr>
                <a:xfrm>
                  <a:off x="917280" y="5564160"/>
                  <a:ext cx="35812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Rectangle 62"/>
            <p:cNvSpPr/>
            <p:nvPr/>
          </p:nvSpPr>
          <p:spPr>
            <a:xfrm>
              <a:off x="754200" y="5059440"/>
              <a:ext cx="189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Verdana"/>
                </a:rPr>
                <a:t>弹力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1933560" y="1577880"/>
                <a:ext cx="4968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10"/>
          <p:cNvSpPr/>
          <p:nvPr/>
        </p:nvSpPr>
        <p:spPr>
          <a:xfrm>
            <a:off x="2571840" y="24289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保守力作功，势能减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2542320" y="8571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守力所作的功等于势能增量的负值，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1000080" y="14292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7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保守力的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6:00:31Z</dcterms:created>
  <dc:creator>MC SYSTEM</dc:creator>
  <dc:description/>
  <dc:language>en-US</dc:language>
  <cp:lastModifiedBy>szu</cp:lastModifiedBy>
  <dcterms:modified xsi:type="dcterms:W3CDTF">2019-03-21T03:50:25Z</dcterms:modified>
  <cp:revision>53</cp:revision>
  <dc:subject/>
  <dc:title>3-5   保守力与非保守力   势能</dc:title>
</cp:coreProperties>
</file>